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CC3-7AA4-456F-820B-A7341FC9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FA10-FDC5-4547-B425-4533C9B1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8EA-85F0-4857-934B-EFB17BAA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4EA-489B-4C31-AFFE-9C135CDE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F77B-308E-454D-ACFF-2B28EBF8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64D9-23CE-4039-A3E3-47B8725B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D1B0-A88C-45CD-9A6C-891166B0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4295-958A-465B-974B-87C1B233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BFC5-A471-432F-BD70-AC43E8E0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3AE2-1A98-446E-B496-1AC1C590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4D63-4C4E-4D8C-BA00-EDBF37C4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DBA-E240-4E43-918B-FFCB6AB7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B043-5D90-42F2-9BEC-57918E7A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7384-7BD9-43CC-880C-8326F334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D3B5-E068-4719-98A2-C2EDD8CD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C2A4-BA5F-4417-9004-D3D8AEE4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9837-BA1B-4991-9C34-40AB46E8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E53-03F3-4424-8A56-D0872004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F8AC-872F-42C5-A37D-52D3D477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1AC-5BE1-43B4-B686-6BB0B998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83B-41EF-4531-95F6-77FBCD82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032-65AF-41CC-94F3-370F83AD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8606-5DF2-4C30-8E58-971D06A7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6BDC-BF5E-4E17-BDA8-DE653FEC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8C82-CC97-41C0-BD8F-A62F827758FA}" type="slidenum"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4357-ED23-444E-9A53-FB26C9E9D855}" type="slidenum">
              <a:rPr b="0" lang="es-CO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Tahoma"/>
              </a:rPr>
              <a:t>Fundamentos de 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O" sz="4400" spc="-1" strike="noStrike">
                <a:solidFill>
                  <a:srgbClr val="000000"/>
                </a:solidFill>
                <a:latin typeface="Tahoma"/>
              </a:rPr>
              <a:t>Orientación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 a Obje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53848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GB" sz="3200" spc="-1" strike="noStrike">
                <a:solidFill>
                  <a:srgbClr val="40458c"/>
                </a:solidFill>
                <a:latin typeface="Tahoma"/>
              </a:rPr>
              <a:t>Ejemplo Enviar Flores [4]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40458c"/>
                </a:solidFill>
                <a:latin typeface="Tahoma"/>
              </a:rPr>
              <a:t>Juan le solicita a Rosa un </a:t>
            </a:r>
            <a:r>
              <a:rPr b="1" i="1" lang="en-GB" sz="2800" spc="-1" strike="noStrike">
                <a:solidFill>
                  <a:srgbClr val="40458c"/>
                </a:solidFill>
                <a:latin typeface="Tahoma"/>
              </a:rPr>
              <a:t>servic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i="1" lang="en-GB" sz="2800" spc="-1" strike="noStrike">
                <a:solidFill>
                  <a:srgbClr val="40458c"/>
                </a:solidFill>
                <a:latin typeface="Tahoma"/>
              </a:rPr>
              <a:t>Rosa sabe cómo prestarle el servicio a Ju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i="1" lang="en-GB" sz="2800" spc="-1" strike="noStrike">
                <a:solidFill>
                  <a:srgbClr val="40458c"/>
                </a:solidFill>
                <a:latin typeface="Tahoma"/>
              </a:rPr>
              <a:t>Juan  sabe que Rosa presta el servicio que el necesi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i="1" lang="en-GB" sz="2800" spc="-1" strike="noStrike">
                <a:solidFill>
                  <a:srgbClr val="40458c"/>
                </a:solidFill>
                <a:latin typeface="Tahoma"/>
              </a:rPr>
              <a:t>Rosa es responsable de prestarle el servicio adecuadamente a Ju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i="1" lang="en-GB" sz="2800" spc="-1" strike="noStrike">
                <a:solidFill>
                  <a:srgbClr val="40458c"/>
                </a:solidFill>
                <a:latin typeface="Tahoma"/>
              </a:rPr>
              <a:t>Juan desconoce qué le implica a Rosa prestarle el servic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-279360" y="-171360"/>
            <a:ext cx="558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  <a:ea typeface="HG Mincho Light J"/>
              </a:rPr>
              <a:t>CB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3848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709280"/>
            <a:ext cx="777240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GB" sz="3200" spc="-1" strike="noStrike">
                <a:solidFill>
                  <a:srgbClr val="40458c"/>
                </a:solidFill>
                <a:latin typeface="Tahoma"/>
              </a:rPr>
              <a:t>Ejemplo Enviar Flores [4]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109520" y="2635200"/>
            <a:ext cx="780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Arial"/>
                <a:ea typeface="HG Mincho Light J"/>
              </a:rPr>
              <a:t>Marí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14280" y="4370400"/>
            <a:ext cx="660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Arial"/>
                <a:ea typeface="HG Mincho Light J"/>
              </a:rPr>
              <a:t>Ju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092400" y="4384800"/>
            <a:ext cx="711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Arial"/>
                <a:ea typeface="HG Mincho Light J"/>
              </a:rPr>
              <a:t>Ro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4567320" y="5207040"/>
            <a:ext cx="1811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e00"/>
                </a:solidFill>
                <a:latin typeface="Arial"/>
                <a:ea typeface="HG Mincho Light J"/>
              </a:rPr>
              <a:t>Florista</a:t>
            </a:r>
            <a:r>
              <a:rPr b="0" lang="en-GB" sz="2400" spc="-1" strike="noStrike">
                <a:solidFill>
                  <a:srgbClr val="40458c"/>
                </a:solidFill>
                <a:latin typeface="Arial"/>
                <a:ea typeface="HG Mincho Light J"/>
              </a:rPr>
              <a:t> </a:t>
            </a:r>
            <a:r>
              <a:rPr b="0" lang="en-GB" sz="2400" spc="-1" strike="noStrike">
                <a:solidFill>
                  <a:srgbClr val="00ae00"/>
                </a:solidFill>
                <a:latin typeface="Arial"/>
                <a:ea typeface="HG Mincho Light J"/>
              </a:rPr>
              <a:t>Loc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6799680" y="4357800"/>
            <a:ext cx="1456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e00"/>
                </a:solidFill>
                <a:latin typeface="Arial"/>
                <a:ea typeface="HG Mincho Light J"/>
              </a:rPr>
              <a:t>Recolect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6851880" y="3457440"/>
            <a:ext cx="13219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e00"/>
                </a:solidFill>
                <a:latin typeface="Arial"/>
                <a:ea typeface="HG Mincho Light J"/>
              </a:rPr>
              <a:t>Product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5181840" y="3510000"/>
            <a:ext cx="1287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e00"/>
                </a:solidFill>
                <a:latin typeface="Arial"/>
                <a:ea typeface="HG Mincho Light J"/>
              </a:rPr>
              <a:t>Arreglis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3002400" y="2649600"/>
            <a:ext cx="1422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e00"/>
                </a:solidFill>
                <a:latin typeface="Arial"/>
                <a:ea typeface="HG Mincho Light J"/>
              </a:rPr>
              <a:t>Mensajer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Line 12"/>
          <p:cNvSpPr/>
          <p:nvPr/>
        </p:nvSpPr>
        <p:spPr>
          <a:xfrm>
            <a:off x="1905120" y="4567320"/>
            <a:ext cx="97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Line 13"/>
          <p:cNvSpPr/>
          <p:nvPr/>
        </p:nvSpPr>
        <p:spPr>
          <a:xfrm>
            <a:off x="3862440" y="4605480"/>
            <a:ext cx="83484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4097160" y="3105000"/>
            <a:ext cx="782640" cy="21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Line 15"/>
          <p:cNvSpPr/>
          <p:nvPr/>
        </p:nvSpPr>
        <p:spPr>
          <a:xfrm flipH="1">
            <a:off x="5138280" y="3835440"/>
            <a:ext cx="708120" cy="140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Line 16"/>
          <p:cNvSpPr/>
          <p:nvPr/>
        </p:nvSpPr>
        <p:spPr>
          <a:xfrm flipH="1">
            <a:off x="5570280" y="4619520"/>
            <a:ext cx="126828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Line 17"/>
          <p:cNvSpPr/>
          <p:nvPr/>
        </p:nvSpPr>
        <p:spPr>
          <a:xfrm flipH="1">
            <a:off x="7292880" y="3822840"/>
            <a:ext cx="35568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Line 18"/>
          <p:cNvSpPr/>
          <p:nvPr/>
        </p:nvSpPr>
        <p:spPr>
          <a:xfrm flipH="1">
            <a:off x="1915920" y="2844720"/>
            <a:ext cx="1060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538488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77708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751"/>
              </a:spcBef>
              <a:buSzPct val="113152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En programación orientada por objetos un programa es una comunidad de agentes (objetos) que interactuan entre ellos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51"/>
              </a:spcBef>
              <a:buSzPct val="113152"/>
              <a:buBlip>
                <a:blip r:embed="rId2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Cada objeto tiene un rol en la solución del problema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51"/>
              </a:spcBef>
              <a:buSzPct val="113152"/>
              <a:buBlip>
                <a:blip r:embed="rId3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Cada objeto provee un conjunto de servicios (o métodos)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51"/>
              </a:spcBef>
              <a:buSzPct val="113152"/>
              <a:buBlip>
                <a:blip r:embed="rId4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Los servicios de un objeto son usados por otros objetos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3848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657080"/>
            <a:ext cx="777240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751"/>
              </a:spcBef>
              <a:buSzPct val="113152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GB" sz="3000" spc="-1" strike="noStrike">
                <a:solidFill>
                  <a:srgbClr val="40458c"/>
                </a:solidFill>
                <a:latin typeface="Tahoma"/>
              </a:rPr>
              <a:t>La forma en que los objetos se comunican entre ellos es a través de mensajes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40458c"/>
                </a:solidFill>
                <a:latin typeface="Tahoma"/>
              </a:rPr>
              <a:t>Un mensaje encapsula la petición de un servic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40458c"/>
                </a:solidFill>
                <a:latin typeface="Tahoma"/>
              </a:rPr>
              <a:t>El receptor del mensaje presta el servicio y devuelve una respuesta al que solicitó el servic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172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19" name="Group 2"/>
          <p:cNvGrpSpPr/>
          <p:nvPr/>
        </p:nvGrpSpPr>
        <p:grpSpPr>
          <a:xfrm>
            <a:off x="990720" y="1752480"/>
            <a:ext cx="7466040" cy="1599480"/>
            <a:chOff x="990720" y="1752480"/>
            <a:chExt cx="7466040" cy="1599480"/>
          </a:xfrm>
        </p:grpSpPr>
        <p:grpSp>
          <p:nvGrpSpPr>
            <p:cNvPr id="320" name="Group 3"/>
            <p:cNvGrpSpPr/>
            <p:nvPr/>
          </p:nvGrpSpPr>
          <p:grpSpPr>
            <a:xfrm>
              <a:off x="990720" y="2045160"/>
              <a:ext cx="2252520" cy="1306800"/>
              <a:chOff x="990720" y="2045160"/>
              <a:chExt cx="2252520" cy="1306800"/>
            </a:xfrm>
          </p:grpSpPr>
          <p:sp>
            <p:nvSpPr>
              <p:cNvPr id="321" name="AutoShape 4"/>
              <p:cNvSpPr/>
              <p:nvPr/>
            </p:nvSpPr>
            <p:spPr>
              <a:xfrm>
                <a:off x="990720" y="2050200"/>
                <a:ext cx="2252520" cy="1301760"/>
              </a:xfrm>
              <a:prstGeom prst="roundRect">
                <a:avLst>
                  <a:gd name="adj" fmla="val 12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2" name="Oval 5"/>
              <p:cNvSpPr/>
              <p:nvPr/>
            </p:nvSpPr>
            <p:spPr>
              <a:xfrm>
                <a:off x="2114640" y="2921760"/>
                <a:ext cx="239760" cy="204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3" name="AutoShape 6"/>
              <p:cNvSpPr/>
              <p:nvPr/>
            </p:nvSpPr>
            <p:spPr>
              <a:xfrm>
                <a:off x="2484360" y="2624400"/>
                <a:ext cx="276480" cy="148680"/>
              </a:xfrm>
              <a:prstGeom prst="roundRect">
                <a:avLst>
                  <a:gd name="adj" fmla="val 1083"/>
                </a:avLst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4" name="Freeform 7"/>
              <p:cNvSpPr/>
              <p:nvPr/>
            </p:nvSpPr>
            <p:spPr>
              <a:xfrm>
                <a:off x="1544760" y="2625840"/>
                <a:ext cx="295200" cy="33444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4440"/>
                  <a:gd name="textAreaBottom" fmla="*/ 334800 h 334440"/>
                </a:gdLst>
                <a:ahLst/>
                <a:rect l="textAreaLeft" t="textAreaTop" r="textAreaRight" b="textAreaBottom"/>
                <a:pathLst>
                  <a:path w="821" h="922">
                    <a:moveTo>
                      <a:pt x="410" y="0"/>
                    </a:moveTo>
                    <a:lnTo>
                      <a:pt x="820" y="921"/>
                    </a:lnTo>
                    <a:lnTo>
                      <a:pt x="0" y="921"/>
                    </a:lnTo>
                    <a:lnTo>
                      <a:pt x="410" y="0"/>
                    </a:lnTo>
                  </a:path>
                </a:pathLst>
              </a:custGeom>
              <a:solidFill>
                <a:srgbClr val="9900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325" name="Group 8"/>
              <p:cNvGrpSpPr/>
              <p:nvPr/>
            </p:nvGrpSpPr>
            <p:grpSpPr>
              <a:xfrm>
                <a:off x="1006560" y="2045160"/>
                <a:ext cx="2219400" cy="349560"/>
                <a:chOff x="1006560" y="2045160"/>
                <a:chExt cx="2219400" cy="349560"/>
              </a:xfrm>
            </p:grpSpPr>
            <p:grpSp>
              <p:nvGrpSpPr>
                <p:cNvPr id="326" name="Group 9"/>
                <p:cNvGrpSpPr/>
                <p:nvPr/>
              </p:nvGrpSpPr>
              <p:grpSpPr>
                <a:xfrm>
                  <a:off x="1012680" y="2045160"/>
                  <a:ext cx="2213280" cy="349560"/>
                  <a:chOff x="1012680" y="2045160"/>
                  <a:chExt cx="2213280" cy="349560"/>
                </a:xfrm>
              </p:grpSpPr>
              <p:sp>
                <p:nvSpPr>
                  <p:cNvPr id="327" name="AutoShape 10"/>
                  <p:cNvSpPr/>
                  <p:nvPr/>
                </p:nvSpPr>
                <p:spPr>
                  <a:xfrm>
                    <a:off x="1012680" y="2045160"/>
                    <a:ext cx="2213280" cy="349560"/>
                  </a:xfrm>
                  <a:prstGeom prst="roundRect">
                    <a:avLst>
                      <a:gd name="adj" fmla="val 454"/>
                    </a:avLst>
                  </a:pr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8" name="AutoShape 11"/>
                  <p:cNvSpPr/>
                  <p:nvPr/>
                </p:nvSpPr>
                <p:spPr>
                  <a:xfrm>
                    <a:off x="2431080" y="2130840"/>
                    <a:ext cx="221760" cy="214920"/>
                  </a:xfrm>
                  <a:prstGeom prst="roundRect">
                    <a:avLst>
                      <a:gd name="adj" fmla="val 745"/>
                    </a:avLst>
                  </a:pr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9" name="AutoShape 12"/>
                  <p:cNvSpPr/>
                  <p:nvPr/>
                </p:nvSpPr>
                <p:spPr>
                  <a:xfrm>
                    <a:off x="2857680" y="2130840"/>
                    <a:ext cx="221760" cy="214920"/>
                  </a:xfrm>
                  <a:prstGeom prst="roundRect">
                    <a:avLst>
                      <a:gd name="adj" fmla="val 745"/>
                    </a:avLst>
                  </a:prstGeom>
                  <a:solidFill>
                    <a:srgbClr val="99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0" name="Group 13"/>
                <p:cNvGrpSpPr/>
                <p:nvPr/>
              </p:nvGrpSpPr>
              <p:grpSpPr>
                <a:xfrm>
                  <a:off x="1006560" y="2068920"/>
                  <a:ext cx="1403280" cy="260280"/>
                  <a:chOff x="1006560" y="2068920"/>
                  <a:chExt cx="1403280" cy="260280"/>
                </a:xfrm>
              </p:grpSpPr>
              <p:sp>
                <p:nvSpPr>
                  <p:cNvPr id="331" name="AutoShape 14"/>
                  <p:cNvSpPr/>
                  <p:nvPr/>
                </p:nvSpPr>
                <p:spPr>
                  <a:xfrm>
                    <a:off x="1006560" y="2070720"/>
                    <a:ext cx="1403280" cy="258480"/>
                  </a:xfrm>
                  <a:prstGeom prst="roundRect">
                    <a:avLst>
                      <a:gd name="adj" fmla="val 616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2" name="Text Box 15"/>
                  <p:cNvSpPr/>
                  <p:nvPr/>
                </p:nvSpPr>
                <p:spPr>
                  <a:xfrm>
                    <a:off x="1006560" y="2068920"/>
                    <a:ext cx="1403280" cy="23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spcBef>
                        <a:spcPts val="612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40458c"/>
                        </a:solidFill>
                        <a:latin typeface="Arial"/>
                        <a:ea typeface="HG Mincho Light J"/>
                      </a:rPr>
                      <a:t>Ventana ejemplo</a:t>
                    </a:r>
                    <a:endParaRPr b="0" lang="en-US" sz="10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333" name="Group 16"/>
            <p:cNvGrpSpPr/>
            <p:nvPr/>
          </p:nvGrpSpPr>
          <p:grpSpPr>
            <a:xfrm>
              <a:off x="5010120" y="1752480"/>
              <a:ext cx="3446640" cy="1087560"/>
              <a:chOff x="5010120" y="1752480"/>
              <a:chExt cx="3446640" cy="1087560"/>
            </a:xfrm>
          </p:grpSpPr>
          <p:sp>
            <p:nvSpPr>
              <p:cNvPr id="334" name="AutoShape 17"/>
              <p:cNvSpPr/>
              <p:nvPr/>
            </p:nvSpPr>
            <p:spPr>
              <a:xfrm>
                <a:off x="5159520" y="1752480"/>
                <a:ext cx="3297240" cy="1087560"/>
              </a:xfrm>
              <a:prstGeom prst="roundRect">
                <a:avLst>
                  <a:gd name="adj" fmla="val 144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5" name="Text Box 18"/>
              <p:cNvSpPr/>
              <p:nvPr/>
            </p:nvSpPr>
            <p:spPr>
              <a:xfrm>
                <a:off x="5010120" y="1752480"/>
                <a:ext cx="329256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Un objeto ventana gráfica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336" name="Line 19"/>
            <p:cNvSpPr/>
            <p:nvPr/>
          </p:nvSpPr>
          <p:spPr>
            <a:xfrm flipV="1">
              <a:off x="3405240" y="1971360"/>
              <a:ext cx="171756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37" name="Group 20"/>
          <p:cNvGrpSpPr/>
          <p:nvPr/>
        </p:nvGrpSpPr>
        <p:grpSpPr>
          <a:xfrm>
            <a:off x="525240" y="3505320"/>
            <a:ext cx="3848040" cy="2690640"/>
            <a:chOff x="525240" y="3505320"/>
            <a:chExt cx="3848040" cy="2690640"/>
          </a:xfrm>
        </p:grpSpPr>
        <p:sp>
          <p:nvSpPr>
            <p:cNvPr id="338" name="AutoShape 21"/>
            <p:cNvSpPr/>
            <p:nvPr/>
          </p:nvSpPr>
          <p:spPr>
            <a:xfrm>
              <a:off x="914400" y="3505320"/>
              <a:ext cx="3458880" cy="2690640"/>
            </a:xfrm>
            <a:prstGeom prst="roundRect">
              <a:avLst>
                <a:gd name="adj" fmla="val 5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9" name="Text Box 22"/>
            <p:cNvSpPr/>
            <p:nvPr/>
          </p:nvSpPr>
          <p:spPr>
            <a:xfrm>
              <a:off x="525240" y="3505320"/>
              <a:ext cx="3643920" cy="251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2520" indent="-182520">
                <a:lnSpc>
                  <a:spcPct val="93000"/>
                </a:lnSpc>
                <a:tabLst>
                  <a:tab algn="l" pos="0"/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La ventana se sabe: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SzPct val="45000"/>
                <a:buFont typeface="Symbol" charset="2"/>
                <a:buChar char=""/>
                <a:tabLst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cerrar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SzPct val="45000"/>
                <a:buFont typeface="Symbol" charset="2"/>
                <a:buChar char=""/>
                <a:tabLst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abrir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SzPct val="45000"/>
                <a:buFont typeface="Symbol" charset="2"/>
                <a:buChar char=""/>
                <a:tabLst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cambiar de tamaño 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SzPct val="45000"/>
                <a:buFont typeface="Symbol" charset="2"/>
                <a:buChar char=""/>
                <a:tabLst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pintar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SzPct val="45000"/>
                <a:buFont typeface="Symbol" charset="2"/>
                <a:buChar char=""/>
                <a:tabLst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mover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tabLst>
                  <a:tab algn="l" pos="0"/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0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Además, sabe: dónde está,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tabLst>
                  <a:tab algn="l" pos="0"/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0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si está visible o no ...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40" name="Group 23"/>
          <p:cNvGrpSpPr/>
          <p:nvPr/>
        </p:nvGrpSpPr>
        <p:grpSpPr>
          <a:xfrm>
            <a:off x="4811760" y="4716360"/>
            <a:ext cx="3612960" cy="833400"/>
            <a:chOff x="4811760" y="4716360"/>
            <a:chExt cx="3612960" cy="833400"/>
          </a:xfrm>
        </p:grpSpPr>
        <p:sp>
          <p:nvSpPr>
            <p:cNvPr id="341" name="AutoShape 24"/>
            <p:cNvSpPr/>
            <p:nvPr/>
          </p:nvSpPr>
          <p:spPr>
            <a:xfrm>
              <a:off x="4811760" y="4716360"/>
              <a:ext cx="3612960" cy="833400"/>
            </a:xfrm>
            <a:prstGeom prst="roundRect">
              <a:avLst>
                <a:gd name="adj" fmla="val 19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2" name="Text Box 25"/>
            <p:cNvSpPr/>
            <p:nvPr/>
          </p:nvSpPr>
          <p:spPr>
            <a:xfrm>
              <a:off x="4811760" y="4716360"/>
              <a:ext cx="361296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 algn="ctr">
                <a:lnSpc>
                  <a:spcPct val="93000"/>
                </a:lnSpc>
                <a:tabLst>
                  <a:tab algn="l" pos="0"/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C</a:t>
              </a: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ómo se le solicitan los servicios?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4572000" y="3432240"/>
            <a:ext cx="4226040" cy="833400"/>
            <a:chOff x="4572000" y="3432240"/>
            <a:chExt cx="4226040" cy="833400"/>
          </a:xfrm>
        </p:grpSpPr>
        <p:sp>
          <p:nvSpPr>
            <p:cNvPr id="344" name="AutoShape 27"/>
            <p:cNvSpPr/>
            <p:nvPr/>
          </p:nvSpPr>
          <p:spPr>
            <a:xfrm>
              <a:off x="4572000" y="3432240"/>
              <a:ext cx="4226040" cy="833400"/>
            </a:xfrm>
            <a:prstGeom prst="roundRect">
              <a:avLst>
                <a:gd name="adj" fmla="val 19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5" name="Text Box 28"/>
            <p:cNvSpPr/>
            <p:nvPr/>
          </p:nvSpPr>
          <p:spPr>
            <a:xfrm>
              <a:off x="4579200" y="3432240"/>
              <a:ext cx="421164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Qué sabe hacer la ventana?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Cuáles servicios ofrece?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18184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AutoShape 2"/>
          <p:cNvSpPr/>
          <p:nvPr/>
        </p:nvSpPr>
        <p:spPr>
          <a:xfrm>
            <a:off x="981000" y="2004840"/>
            <a:ext cx="2254320" cy="1292400"/>
          </a:xfrm>
          <a:prstGeom prst="roundRect">
            <a:avLst>
              <a:gd name="adj" fmla="val 12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Oval 3"/>
          <p:cNvSpPr/>
          <p:nvPr/>
        </p:nvSpPr>
        <p:spPr>
          <a:xfrm>
            <a:off x="2106720" y="2870280"/>
            <a:ext cx="239760" cy="203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2476440" y="2575080"/>
            <a:ext cx="276120" cy="147600"/>
          </a:xfrm>
          <a:prstGeom prst="roundRect">
            <a:avLst>
              <a:gd name="adj" fmla="val 108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Freeform 5"/>
          <p:cNvSpPr/>
          <p:nvPr/>
        </p:nvSpPr>
        <p:spPr>
          <a:xfrm>
            <a:off x="1535040" y="2576520"/>
            <a:ext cx="295200" cy="331920"/>
          </a:xfrm>
          <a:custGeom>
            <a:avLst/>
            <a:gdLst>
              <a:gd name="textAreaLeft" fmla="*/ 0 w 295200"/>
              <a:gd name="textAreaRight" fmla="*/ 295560 w 2952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821" h="922">
                <a:moveTo>
                  <a:pt x="410" y="0"/>
                </a:moveTo>
                <a:lnTo>
                  <a:pt x="820" y="921"/>
                </a:lnTo>
                <a:lnTo>
                  <a:pt x="0" y="921"/>
                </a:lnTo>
                <a:lnTo>
                  <a:pt x="410" y="0"/>
                </a:lnTo>
              </a:path>
            </a:pathLst>
          </a:custGeom>
          <a:solidFill>
            <a:srgbClr val="9900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51" name="Group 6"/>
          <p:cNvGrpSpPr/>
          <p:nvPr/>
        </p:nvGrpSpPr>
        <p:grpSpPr>
          <a:xfrm>
            <a:off x="979560" y="2000160"/>
            <a:ext cx="2239920" cy="347760"/>
            <a:chOff x="979560" y="2000160"/>
            <a:chExt cx="2239920" cy="347760"/>
          </a:xfrm>
        </p:grpSpPr>
        <p:sp>
          <p:nvSpPr>
            <p:cNvPr id="352" name="AutoShape 7"/>
            <p:cNvSpPr/>
            <p:nvPr/>
          </p:nvSpPr>
          <p:spPr>
            <a:xfrm>
              <a:off x="979560" y="2000160"/>
              <a:ext cx="2239920" cy="347760"/>
            </a:xfrm>
            <a:prstGeom prst="roundRect">
              <a:avLst>
                <a:gd name="adj" fmla="val 454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3" name="AutoShape 8"/>
            <p:cNvSpPr/>
            <p:nvPr/>
          </p:nvSpPr>
          <p:spPr>
            <a:xfrm>
              <a:off x="2413440" y="2085480"/>
              <a:ext cx="225000" cy="213480"/>
            </a:xfrm>
            <a:prstGeom prst="roundRect">
              <a:avLst>
                <a:gd name="adj" fmla="val 745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4" name="AutoShape 9"/>
            <p:cNvSpPr/>
            <p:nvPr/>
          </p:nvSpPr>
          <p:spPr>
            <a:xfrm>
              <a:off x="2845080" y="2085480"/>
              <a:ext cx="225000" cy="213480"/>
            </a:xfrm>
            <a:prstGeom prst="roundRect">
              <a:avLst>
                <a:gd name="adj" fmla="val 745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55" name="Group 10"/>
          <p:cNvGrpSpPr/>
          <p:nvPr/>
        </p:nvGrpSpPr>
        <p:grpSpPr>
          <a:xfrm>
            <a:off x="984240" y="2050920"/>
            <a:ext cx="1401840" cy="255960"/>
            <a:chOff x="984240" y="2050920"/>
            <a:chExt cx="1401840" cy="255960"/>
          </a:xfrm>
        </p:grpSpPr>
        <p:sp>
          <p:nvSpPr>
            <p:cNvPr id="356" name="AutoShape 11"/>
            <p:cNvSpPr/>
            <p:nvPr/>
          </p:nvSpPr>
          <p:spPr>
            <a:xfrm>
              <a:off x="984240" y="2050920"/>
              <a:ext cx="1401840" cy="255960"/>
            </a:xfrm>
            <a:prstGeom prst="roundRect">
              <a:avLst>
                <a:gd name="adj" fmla="val 61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7" name="Text Box 12"/>
            <p:cNvSpPr/>
            <p:nvPr/>
          </p:nvSpPr>
          <p:spPr>
            <a:xfrm>
              <a:off x="984240" y="2050920"/>
              <a:ext cx="14018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6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Ventana ejemplo</a:t>
              </a:r>
              <a:endParaRPr b="0" lang="en-US" sz="1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58" name="Group 13"/>
          <p:cNvGrpSpPr/>
          <p:nvPr/>
        </p:nvGrpSpPr>
        <p:grpSpPr>
          <a:xfrm>
            <a:off x="424800" y="3686040"/>
            <a:ext cx="3927600" cy="2152800"/>
            <a:chOff x="424800" y="3686040"/>
            <a:chExt cx="3927600" cy="2152800"/>
          </a:xfrm>
        </p:grpSpPr>
        <p:sp>
          <p:nvSpPr>
            <p:cNvPr id="359" name="AutoShape 14"/>
            <p:cNvSpPr/>
            <p:nvPr/>
          </p:nvSpPr>
          <p:spPr>
            <a:xfrm>
              <a:off x="608040" y="3686040"/>
              <a:ext cx="3537000" cy="2152800"/>
            </a:xfrm>
            <a:prstGeom prst="roundRect">
              <a:avLst>
                <a:gd name="adj" fmla="val 6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0" name="Text Box 15"/>
            <p:cNvSpPr/>
            <p:nvPr/>
          </p:nvSpPr>
          <p:spPr>
            <a:xfrm>
              <a:off x="424800" y="3686040"/>
              <a:ext cx="3927600" cy="188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2520" indent="-182520">
                <a:lnSpc>
                  <a:spcPct val="93000"/>
                </a:lnSpc>
                <a:tabLst>
                  <a:tab algn="l" pos="0"/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Las figuras geométricas se </a:t>
              </a:r>
              <a:br>
                <a:rPr sz="2000"/>
              </a:b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saben: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SzPct val="45000"/>
                <a:buFont typeface="Symbol" charset="2"/>
                <a:buChar char=""/>
                <a:tabLst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Pintar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SzPct val="45000"/>
                <a:buFont typeface="Symbol" charset="2"/>
                <a:buChar char=""/>
                <a:tabLst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agrandar ..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tabLst>
                  <a:tab algn="l" pos="0"/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0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Además, saben: dónde están,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182520" indent="-182520">
                <a:lnSpc>
                  <a:spcPct val="100000"/>
                </a:lnSpc>
                <a:tabLst>
                  <a:tab algn="l" pos="0"/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0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si están visibles o no ...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61" name="Group 16"/>
          <p:cNvGrpSpPr/>
          <p:nvPr/>
        </p:nvGrpSpPr>
        <p:grpSpPr>
          <a:xfrm>
            <a:off x="4952880" y="5389560"/>
            <a:ext cx="3613320" cy="833760"/>
            <a:chOff x="4952880" y="5389560"/>
            <a:chExt cx="3613320" cy="833760"/>
          </a:xfrm>
        </p:grpSpPr>
        <p:sp>
          <p:nvSpPr>
            <p:cNvPr id="362" name="AutoShape 17"/>
            <p:cNvSpPr/>
            <p:nvPr/>
          </p:nvSpPr>
          <p:spPr>
            <a:xfrm>
              <a:off x="4952880" y="5389560"/>
              <a:ext cx="3613320" cy="833760"/>
            </a:xfrm>
            <a:prstGeom prst="roundRect">
              <a:avLst>
                <a:gd name="adj" fmla="val 19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4952880" y="5389560"/>
              <a:ext cx="361332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 algn="ctr">
                <a:lnSpc>
                  <a:spcPct val="93000"/>
                </a:lnSpc>
                <a:tabLst>
                  <a:tab algn="l" pos="0"/>
                  <a:tab algn="l" pos="182520"/>
                  <a:tab algn="l" pos="1096920"/>
                  <a:tab algn="l" pos="2011320"/>
                  <a:tab algn="l" pos="2925720"/>
                  <a:tab algn="l" pos="3840120"/>
                  <a:tab algn="l" pos="4754520"/>
                  <a:tab algn="l" pos="5668920"/>
                  <a:tab algn="l" pos="6583320"/>
                  <a:tab algn="l" pos="7497720"/>
                  <a:tab algn="l" pos="8412120"/>
                  <a:tab algn="l" pos="9326520"/>
                  <a:tab algn="l" pos="1024092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Cómo se le solicitan los servicios?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64" name="Group 19"/>
          <p:cNvGrpSpPr/>
          <p:nvPr/>
        </p:nvGrpSpPr>
        <p:grpSpPr>
          <a:xfrm>
            <a:off x="4572000" y="4246560"/>
            <a:ext cx="3963960" cy="1113480"/>
            <a:chOff x="4572000" y="4246560"/>
            <a:chExt cx="3963960" cy="1113480"/>
          </a:xfrm>
        </p:grpSpPr>
        <p:sp>
          <p:nvSpPr>
            <p:cNvPr id="365" name="AutoShape 20"/>
            <p:cNvSpPr/>
            <p:nvPr/>
          </p:nvSpPr>
          <p:spPr>
            <a:xfrm>
              <a:off x="4572000" y="4246560"/>
              <a:ext cx="3963960" cy="835200"/>
            </a:xfrm>
            <a:prstGeom prst="roundRect">
              <a:avLst>
                <a:gd name="adj" fmla="val 19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6" name="Text Box 21"/>
            <p:cNvSpPr/>
            <p:nvPr/>
          </p:nvSpPr>
          <p:spPr>
            <a:xfrm>
              <a:off x="4572000" y="4246560"/>
              <a:ext cx="3963960" cy="11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Qué saben hacer las figuras geométricas gráficas?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67" name="Group 22"/>
          <p:cNvGrpSpPr/>
          <p:nvPr/>
        </p:nvGrpSpPr>
        <p:grpSpPr>
          <a:xfrm>
            <a:off x="1828800" y="2209680"/>
            <a:ext cx="6706800" cy="1752480"/>
            <a:chOff x="1828800" y="2209680"/>
            <a:chExt cx="6706800" cy="1752480"/>
          </a:xfrm>
        </p:grpSpPr>
        <p:grpSp>
          <p:nvGrpSpPr>
            <p:cNvPr id="368" name="Group 23"/>
            <p:cNvGrpSpPr/>
            <p:nvPr/>
          </p:nvGrpSpPr>
          <p:grpSpPr>
            <a:xfrm>
              <a:off x="4282560" y="2209680"/>
              <a:ext cx="4253040" cy="1752480"/>
              <a:chOff x="4282560" y="2209680"/>
              <a:chExt cx="4253040" cy="1752480"/>
            </a:xfrm>
          </p:grpSpPr>
          <p:sp>
            <p:nvSpPr>
              <p:cNvPr id="369" name="AutoShape 24"/>
              <p:cNvSpPr/>
              <p:nvPr/>
            </p:nvSpPr>
            <p:spPr>
              <a:xfrm>
                <a:off x="4669920" y="2209680"/>
                <a:ext cx="3865680" cy="1752480"/>
              </a:xfrm>
              <a:prstGeom prst="roundRect">
                <a:avLst>
                  <a:gd name="adj" fmla="val 88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0" name="Text Box 25"/>
              <p:cNvSpPr/>
              <p:nvPr/>
            </p:nvSpPr>
            <p:spPr>
              <a:xfrm>
                <a:off x="4282560" y="2209680"/>
                <a:ext cx="4067640" cy="129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82520" indent="-182520">
                  <a:lnSpc>
                    <a:spcPct val="93000"/>
                  </a:lnSpc>
                  <a:tabLst>
                    <a:tab algn="l" pos="0"/>
                    <a:tab algn="l" pos="182520"/>
                    <a:tab algn="l" pos="1096920"/>
                    <a:tab algn="l" pos="2011320"/>
                    <a:tab algn="l" pos="2925720"/>
                    <a:tab algn="l" pos="3840120"/>
                    <a:tab algn="l" pos="4754520"/>
                    <a:tab algn="l" pos="5668920"/>
                    <a:tab algn="l" pos="6583320"/>
                    <a:tab algn="l" pos="7497720"/>
                    <a:tab algn="l" pos="8412120"/>
                    <a:tab algn="l" pos="9326520"/>
                    <a:tab algn="l" pos="10240920"/>
                  </a:tabLst>
                </a:pPr>
                <a:r>
                  <a:rPr b="1" lang="en-GB" sz="20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Objetos figuras geométricas: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 marL="182520" indent="-182520">
                  <a:lnSpc>
                    <a:spcPct val="100000"/>
                  </a:lnSpc>
                  <a:buClr>
                    <a:srgbClr val="000000"/>
                  </a:buClr>
                  <a:buSzPct val="45000"/>
                  <a:buFont typeface="Symbol" charset="2"/>
                  <a:buChar char=""/>
                  <a:tabLst>
                    <a:tab algn="l" pos="182520"/>
                    <a:tab algn="l" pos="1096920"/>
                    <a:tab algn="l" pos="2011320"/>
                    <a:tab algn="l" pos="2925720"/>
                    <a:tab algn="l" pos="3840120"/>
                    <a:tab algn="l" pos="4754520"/>
                    <a:tab algn="l" pos="5668920"/>
                    <a:tab algn="l" pos="6583320"/>
                    <a:tab algn="l" pos="7497720"/>
                    <a:tab algn="l" pos="8412120"/>
                    <a:tab algn="l" pos="9326520"/>
                    <a:tab algn="l" pos="10240920"/>
                  </a:tabLst>
                </a:pPr>
                <a:r>
                  <a:rPr b="1" lang="en-GB" sz="20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un triángulo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 marL="182520" indent="-182520">
                  <a:lnSpc>
                    <a:spcPct val="100000"/>
                  </a:lnSpc>
                  <a:buClr>
                    <a:srgbClr val="000000"/>
                  </a:buClr>
                  <a:buSzPct val="45000"/>
                  <a:buFont typeface="Symbol" charset="2"/>
                  <a:buChar char=""/>
                  <a:tabLst>
                    <a:tab algn="l" pos="182520"/>
                    <a:tab algn="l" pos="1096920"/>
                    <a:tab algn="l" pos="2011320"/>
                    <a:tab algn="l" pos="2925720"/>
                    <a:tab algn="l" pos="3840120"/>
                    <a:tab algn="l" pos="4754520"/>
                    <a:tab algn="l" pos="5668920"/>
                    <a:tab algn="l" pos="6583320"/>
                    <a:tab algn="l" pos="7497720"/>
                    <a:tab algn="l" pos="8412120"/>
                    <a:tab algn="l" pos="9326520"/>
                    <a:tab algn="l" pos="10240920"/>
                  </a:tabLst>
                </a:pPr>
                <a:r>
                  <a:rPr b="1" lang="en-GB" sz="20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un rectángulo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 marL="182520" indent="-182520">
                  <a:lnSpc>
                    <a:spcPct val="100000"/>
                  </a:lnSpc>
                  <a:buClr>
                    <a:srgbClr val="000000"/>
                  </a:buClr>
                  <a:buSzPct val="45000"/>
                  <a:buFont typeface="Symbol" charset="2"/>
                  <a:buChar char=""/>
                  <a:tabLst>
                    <a:tab algn="l" pos="182520"/>
                    <a:tab algn="l" pos="1096920"/>
                    <a:tab algn="l" pos="2011320"/>
                    <a:tab algn="l" pos="2925720"/>
                    <a:tab algn="l" pos="3840120"/>
                    <a:tab algn="l" pos="4754520"/>
                    <a:tab algn="l" pos="5668920"/>
                    <a:tab algn="l" pos="6583320"/>
                    <a:tab algn="l" pos="7497720"/>
                    <a:tab algn="l" pos="8412120"/>
                    <a:tab algn="l" pos="9326520"/>
                    <a:tab algn="l" pos="10240920"/>
                  </a:tabLst>
                </a:pPr>
                <a:r>
                  <a:rPr b="1" lang="en-GB" sz="20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un círculo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371" name="Line 26"/>
            <p:cNvSpPr/>
            <p:nvPr/>
          </p:nvSpPr>
          <p:spPr>
            <a:xfrm flipV="1">
              <a:off x="2784600" y="2346120"/>
              <a:ext cx="1748160" cy="21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2" name="Line 27"/>
            <p:cNvSpPr/>
            <p:nvPr/>
          </p:nvSpPr>
          <p:spPr>
            <a:xfrm flipV="1">
              <a:off x="1828800" y="2263680"/>
              <a:ext cx="275976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3" name="Line 28"/>
            <p:cNvSpPr/>
            <p:nvPr/>
          </p:nvSpPr>
          <p:spPr>
            <a:xfrm flipV="1">
              <a:off x="2352240" y="2462040"/>
              <a:ext cx="2168640" cy="35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487692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5" name="AutoShape 2"/>
          <p:cNvSpPr/>
          <p:nvPr/>
        </p:nvSpPr>
        <p:spPr>
          <a:xfrm>
            <a:off x="990720" y="1752480"/>
            <a:ext cx="2253960" cy="1292400"/>
          </a:xfrm>
          <a:prstGeom prst="roundRect">
            <a:avLst>
              <a:gd name="adj" fmla="val 12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5884920" y="1952640"/>
            <a:ext cx="1215720" cy="496440"/>
            <a:chOff x="5884920" y="1952640"/>
            <a:chExt cx="1215720" cy="496440"/>
          </a:xfrm>
        </p:grpSpPr>
        <p:sp>
          <p:nvSpPr>
            <p:cNvPr id="377" name="Oval 4"/>
            <p:cNvSpPr/>
            <p:nvPr/>
          </p:nvSpPr>
          <p:spPr>
            <a:xfrm>
              <a:off x="6455520" y="2246760"/>
              <a:ext cx="239400" cy="202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8" name="AutoShape 5"/>
            <p:cNvSpPr/>
            <p:nvPr/>
          </p:nvSpPr>
          <p:spPr>
            <a:xfrm>
              <a:off x="6824880" y="1952640"/>
              <a:ext cx="275760" cy="146880"/>
            </a:xfrm>
            <a:prstGeom prst="roundRect">
              <a:avLst>
                <a:gd name="adj" fmla="val 1083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9" name="Freeform 6"/>
            <p:cNvSpPr/>
            <p:nvPr/>
          </p:nvSpPr>
          <p:spPr>
            <a:xfrm>
              <a:off x="5884920" y="1954080"/>
              <a:ext cx="294840" cy="33192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821" h="924">
                  <a:moveTo>
                    <a:pt x="410" y="0"/>
                  </a:moveTo>
                  <a:lnTo>
                    <a:pt x="820" y="923"/>
                  </a:lnTo>
                  <a:lnTo>
                    <a:pt x="0" y="923"/>
                  </a:lnTo>
                  <a:lnTo>
                    <a:pt x="410" y="0"/>
                  </a:lnTo>
                </a:path>
              </a:pathLst>
            </a:custGeom>
            <a:solidFill>
              <a:srgbClr val="9900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80" name="Group 7"/>
          <p:cNvGrpSpPr/>
          <p:nvPr/>
        </p:nvGrpSpPr>
        <p:grpSpPr>
          <a:xfrm>
            <a:off x="1006560" y="1747800"/>
            <a:ext cx="2220480" cy="347760"/>
            <a:chOff x="1006560" y="1747800"/>
            <a:chExt cx="2220480" cy="347760"/>
          </a:xfrm>
        </p:grpSpPr>
        <p:grpSp>
          <p:nvGrpSpPr>
            <p:cNvPr id="381" name="Group 8"/>
            <p:cNvGrpSpPr/>
            <p:nvPr/>
          </p:nvGrpSpPr>
          <p:grpSpPr>
            <a:xfrm>
              <a:off x="1012680" y="1747800"/>
              <a:ext cx="2214360" cy="347760"/>
              <a:chOff x="1012680" y="1747800"/>
              <a:chExt cx="2214360" cy="347760"/>
            </a:xfrm>
          </p:grpSpPr>
          <p:sp>
            <p:nvSpPr>
              <p:cNvPr id="382" name="AutoShape 9"/>
              <p:cNvSpPr/>
              <p:nvPr/>
            </p:nvSpPr>
            <p:spPr>
              <a:xfrm>
                <a:off x="1012680" y="1747800"/>
                <a:ext cx="2214360" cy="347760"/>
              </a:xfrm>
              <a:prstGeom prst="roundRect">
                <a:avLst>
                  <a:gd name="adj" fmla="val 454"/>
                </a:avLst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3" name="AutoShape 10"/>
              <p:cNvSpPr/>
              <p:nvPr/>
            </p:nvSpPr>
            <p:spPr>
              <a:xfrm>
                <a:off x="2432160" y="1833120"/>
                <a:ext cx="221760" cy="212760"/>
              </a:xfrm>
              <a:prstGeom prst="roundRect">
                <a:avLst>
                  <a:gd name="adj" fmla="val 745"/>
                </a:avLst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4" name="AutoShape 11"/>
              <p:cNvSpPr/>
              <p:nvPr/>
            </p:nvSpPr>
            <p:spPr>
              <a:xfrm>
                <a:off x="2858760" y="1833120"/>
                <a:ext cx="221760" cy="212760"/>
              </a:xfrm>
              <a:prstGeom prst="roundRect">
                <a:avLst>
                  <a:gd name="adj" fmla="val 745"/>
                </a:avLst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385" name="Text Box 12"/>
            <p:cNvSpPr/>
            <p:nvPr/>
          </p:nvSpPr>
          <p:spPr>
            <a:xfrm>
              <a:off x="1006560" y="1771920"/>
              <a:ext cx="14032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7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Ventana ejemplo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86" name="Group 13"/>
          <p:cNvGrpSpPr/>
          <p:nvPr/>
        </p:nvGrpSpPr>
        <p:grpSpPr>
          <a:xfrm>
            <a:off x="914400" y="3352680"/>
            <a:ext cx="3197160" cy="1629000"/>
            <a:chOff x="914400" y="3352680"/>
            <a:chExt cx="3197160" cy="1629000"/>
          </a:xfrm>
        </p:grpSpPr>
        <p:sp>
          <p:nvSpPr>
            <p:cNvPr id="387" name="AutoShape 14"/>
            <p:cNvSpPr/>
            <p:nvPr/>
          </p:nvSpPr>
          <p:spPr>
            <a:xfrm>
              <a:off x="914400" y="3352680"/>
              <a:ext cx="3197160" cy="1629000"/>
            </a:xfrm>
            <a:prstGeom prst="roundRect">
              <a:avLst>
                <a:gd name="adj" fmla="val 9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8" name="Text Box 15"/>
            <p:cNvSpPr/>
            <p:nvPr/>
          </p:nvSpPr>
          <p:spPr>
            <a:xfrm>
              <a:off x="914400" y="3352680"/>
              <a:ext cx="3197160" cy="15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La ventana tiene la </a:t>
              </a:r>
              <a:r>
                <a:rPr b="1" i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responsabilidad</a:t>
              </a: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 de solicitar a las figuras geométricas que se pinte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89" name="Freeform 16"/>
          <p:cNvSpPr/>
          <p:nvPr/>
        </p:nvSpPr>
        <p:spPr>
          <a:xfrm>
            <a:off x="3705120" y="2048040"/>
            <a:ext cx="1641600" cy="485640"/>
          </a:xfrm>
          <a:custGeom>
            <a:avLst/>
            <a:gdLst>
              <a:gd name="textAreaLeft" fmla="*/ 0 w 1641600"/>
              <a:gd name="textAreaRight" fmla="*/ 1641960 w 1641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560" h="1350">
                <a:moveTo>
                  <a:pt x="0" y="336"/>
                </a:moveTo>
                <a:lnTo>
                  <a:pt x="3419" y="336"/>
                </a:lnTo>
                <a:lnTo>
                  <a:pt x="3419" y="0"/>
                </a:lnTo>
                <a:lnTo>
                  <a:pt x="4559" y="674"/>
                </a:lnTo>
                <a:lnTo>
                  <a:pt x="3419" y="1349"/>
                </a:lnTo>
                <a:lnTo>
                  <a:pt x="3419" y="1011"/>
                </a:lnTo>
                <a:lnTo>
                  <a:pt x="0" y="1011"/>
                </a:lnTo>
                <a:lnTo>
                  <a:pt x="569" y="674"/>
                </a:lnTo>
                <a:lnTo>
                  <a:pt x="0" y="336"/>
                </a:lnTo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90" name="Group 17"/>
          <p:cNvGrpSpPr/>
          <p:nvPr/>
        </p:nvGrpSpPr>
        <p:grpSpPr>
          <a:xfrm>
            <a:off x="5159520" y="3416400"/>
            <a:ext cx="3396960" cy="1697040"/>
            <a:chOff x="5159520" y="3416400"/>
            <a:chExt cx="3396960" cy="1697040"/>
          </a:xfrm>
        </p:grpSpPr>
        <p:sp>
          <p:nvSpPr>
            <p:cNvPr id="391" name="AutoShape 18"/>
            <p:cNvSpPr/>
            <p:nvPr/>
          </p:nvSpPr>
          <p:spPr>
            <a:xfrm>
              <a:off x="5159520" y="3416400"/>
              <a:ext cx="3396960" cy="1697040"/>
            </a:xfrm>
            <a:prstGeom prst="roundRect">
              <a:avLst>
                <a:gd name="adj" fmla="val 93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2" name="Text Box 19"/>
            <p:cNvSpPr/>
            <p:nvPr/>
          </p:nvSpPr>
          <p:spPr>
            <a:xfrm>
              <a:off x="5159520" y="3416400"/>
              <a:ext cx="3396960" cy="15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Las figuras geométricas tienen la </a:t>
              </a:r>
              <a:r>
                <a:rPr b="1" i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responsabilidad</a:t>
              </a: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 de saberse pintar y de hacerlo cuando se lo solicite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93" name="Group 20"/>
          <p:cNvGrpSpPr/>
          <p:nvPr/>
        </p:nvGrpSpPr>
        <p:grpSpPr>
          <a:xfrm>
            <a:off x="914400" y="5226120"/>
            <a:ext cx="7623000" cy="1019160"/>
            <a:chOff x="914400" y="5226120"/>
            <a:chExt cx="7623000" cy="1019160"/>
          </a:xfrm>
        </p:grpSpPr>
        <p:sp>
          <p:nvSpPr>
            <p:cNvPr id="394" name="AutoShape 21"/>
            <p:cNvSpPr/>
            <p:nvPr/>
          </p:nvSpPr>
          <p:spPr>
            <a:xfrm>
              <a:off x="914400" y="5226120"/>
              <a:ext cx="7623000" cy="1019160"/>
            </a:xfrm>
            <a:prstGeom prst="roundRect">
              <a:avLst>
                <a:gd name="adj" fmla="val 153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5" name="Text Box 22"/>
            <p:cNvSpPr/>
            <p:nvPr/>
          </p:nvSpPr>
          <p:spPr>
            <a:xfrm>
              <a:off x="914400" y="5226120"/>
              <a:ext cx="762300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La ventana tiene que saber cómo hacer la solicitud.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La figura geométrica tuvo que haber hecho público cómo usar sus servicios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97" name="Group 28"/>
          <p:cNvGrpSpPr/>
          <p:nvPr/>
        </p:nvGrpSpPr>
        <p:grpSpPr>
          <a:xfrm>
            <a:off x="762120" y="1752480"/>
            <a:ext cx="7619400" cy="3497040"/>
            <a:chOff x="762120" y="1752480"/>
            <a:chExt cx="7619400" cy="3497040"/>
          </a:xfrm>
        </p:grpSpPr>
        <p:grpSp>
          <p:nvGrpSpPr>
            <p:cNvPr id="398" name="Group 2"/>
            <p:cNvGrpSpPr/>
            <p:nvPr/>
          </p:nvGrpSpPr>
          <p:grpSpPr>
            <a:xfrm>
              <a:off x="1390680" y="4414680"/>
              <a:ext cx="6793920" cy="834840"/>
              <a:chOff x="1390680" y="4414680"/>
              <a:chExt cx="6793920" cy="834840"/>
            </a:xfrm>
          </p:grpSpPr>
          <p:sp>
            <p:nvSpPr>
              <p:cNvPr id="399" name="AutoShape 3"/>
              <p:cNvSpPr/>
              <p:nvPr/>
            </p:nvSpPr>
            <p:spPr>
              <a:xfrm>
                <a:off x="1390680" y="4414680"/>
                <a:ext cx="6793920" cy="83484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0" name="Text Box 4"/>
              <p:cNvSpPr/>
              <p:nvPr/>
            </p:nvSpPr>
            <p:spPr>
              <a:xfrm>
                <a:off x="1390680" y="4414680"/>
                <a:ext cx="6793920" cy="77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La comunicación se hace a través del envío de mensajes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pic>
          <p:nvPicPr>
            <p:cNvPr id="401" name="Picture 25" descr=""/>
            <p:cNvPicPr/>
            <p:nvPr/>
          </p:nvPicPr>
          <p:blipFill>
            <a:blip r:embed="rId1"/>
            <a:stretch/>
          </p:blipFill>
          <p:spPr>
            <a:xfrm>
              <a:off x="762120" y="1752480"/>
              <a:ext cx="7543440" cy="16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27" descr=""/>
            <p:cNvPicPr/>
            <p:nvPr/>
          </p:nvPicPr>
          <p:blipFill>
            <a:blip r:embed="rId2"/>
            <a:stretch/>
          </p:blipFill>
          <p:spPr>
            <a:xfrm>
              <a:off x="2209680" y="2330280"/>
              <a:ext cx="6171840" cy="1954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53848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91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40458c"/>
                </a:solidFill>
                <a:latin typeface="Tahoma"/>
              </a:rPr>
              <a:t>Modelar consiste en identificar (abstraer) qué objetos hay en el mundo del problema, cómo son, cómo se comportan y cómo se relaciona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3848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76197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Obje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s una abstracción de un elemento (concepto) del Contexto del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studia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Fech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utomóvi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Libr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Vuel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3000"/>
              </a:lnSpc>
              <a:spcBef>
                <a:spcPts val="550"/>
              </a:spcBef>
              <a:buClr>
                <a:srgbClr val="6f89f7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Meyer, Bertran., “</a:t>
            </a:r>
            <a:r>
              <a:rPr b="1" lang="en-GB" sz="2200" spc="-1" strike="noStrike">
                <a:solidFill>
                  <a:srgbClr val="40458c"/>
                </a:solidFill>
                <a:latin typeface="Tahoma"/>
              </a:rPr>
              <a:t>Construcción de Software Orientado a Objetos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”, Prentice Hall, 1997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spcBef>
                <a:spcPts val="286"/>
              </a:spcBef>
              <a:spcAft>
                <a:spcPts val="286"/>
              </a:spcAft>
              <a:buClr>
                <a:srgbClr val="6f89f7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Booch, Grady.,”Analisis y Diseño orientado a Objetos con aplicaciones”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spcBef>
                <a:spcPts val="286"/>
              </a:spcBef>
              <a:spcAft>
                <a:spcPts val="286"/>
              </a:spcAft>
              <a:buClr>
                <a:srgbClr val="6f89f7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Fowler, Martin., “</a:t>
            </a:r>
            <a:r>
              <a:rPr b="1" i="1" lang="en-GB" sz="2200" spc="-1" strike="noStrike">
                <a:solidFill>
                  <a:srgbClr val="40458c"/>
                </a:solidFill>
                <a:latin typeface="Tahoma"/>
              </a:rPr>
              <a:t>UML Distille – Applying the Standard Object Modeling Language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”, Addison-Wesley, 1997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spcBef>
                <a:spcPts val="286"/>
              </a:spcBef>
              <a:spcAft>
                <a:spcPts val="286"/>
              </a:spcAft>
              <a:buClr>
                <a:srgbClr val="6f89f7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Budd, Timothy A. </a:t>
            </a:r>
            <a:r>
              <a:rPr b="0" i="1" lang="en-GB" sz="2200" spc="-1" strike="noStrike">
                <a:solidFill>
                  <a:srgbClr val="40458c"/>
                </a:solidFill>
                <a:latin typeface="Tahoma"/>
              </a:rPr>
              <a:t>An Introduction to Object Oriented Programming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(3rd Ed), Addison-Wesley, 2002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spcBef>
                <a:spcPts val="286"/>
              </a:spcBef>
              <a:spcAft>
                <a:spcPts val="286"/>
              </a:spcAft>
              <a:buClr>
                <a:srgbClr val="6f89f7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Peña, Ricardo.,”</a:t>
            </a:r>
            <a:r>
              <a:rPr b="1" lang="en-GB" sz="2200" spc="-1" strike="noStrike">
                <a:solidFill>
                  <a:srgbClr val="40458c"/>
                </a:solidFill>
                <a:latin typeface="Tahoma"/>
              </a:rPr>
              <a:t>Diseño de Programas, formalismo y abstracciones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”, Prentice Hall, 1998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l comportamiento de los objetos puede ser descrito por una caracterización abstracta de su interfaz.  Por ejempl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1649520" y="3887640"/>
            <a:ext cx="5530680" cy="2009880"/>
          </a:xfrm>
          <a:prstGeom prst="rect">
            <a:avLst/>
          </a:prstGeom>
          <a:ln w="0">
            <a:noFill/>
          </a:ln>
        </p:spPr>
      </p:pic>
      <p:sp>
        <p:nvSpPr>
          <p:cNvPr id="410" name="Line 4"/>
          <p:cNvSpPr/>
          <p:nvPr/>
        </p:nvSpPr>
        <p:spPr>
          <a:xfrm>
            <a:off x="2179800" y="4214880"/>
            <a:ext cx="717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Line 5"/>
          <p:cNvSpPr/>
          <p:nvPr/>
        </p:nvSpPr>
        <p:spPr>
          <a:xfrm>
            <a:off x="5349960" y="4227480"/>
            <a:ext cx="1017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La caracterización del comportamiento es suficiente para diseñar el sistema. El comportamiento real del objeto puede ser implementado y refinado más tarde de acuerdo con las necesidad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n objeto empaqueta datos (una representación concreta) y procedimientos que operan sobre los da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3467160" y="3695760"/>
            <a:ext cx="2155680" cy="2608200"/>
          </a:xfrm>
          <a:prstGeom prst="rect">
            <a:avLst/>
          </a:prstGeom>
          <a:ln w="0">
            <a:noFill/>
          </a:ln>
        </p:spPr>
      </p:pic>
      <p:sp>
        <p:nvSpPr>
          <p:cNvPr id="417" name="Line 4"/>
          <p:cNvSpPr/>
          <p:nvPr/>
        </p:nvSpPr>
        <p:spPr>
          <a:xfrm>
            <a:off x="4110120" y="4083120"/>
            <a:ext cx="834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1093680" y="2247840"/>
            <a:ext cx="3003480" cy="3633840"/>
          </a:xfrm>
          <a:prstGeom prst="rect">
            <a:avLst/>
          </a:prstGeom>
          <a:ln w="0">
            <a:noFill/>
          </a:ln>
        </p:spPr>
      </p:pic>
      <p:sp>
        <p:nvSpPr>
          <p:cNvPr id="420" name="Line 3"/>
          <p:cNvSpPr/>
          <p:nvPr/>
        </p:nvSpPr>
        <p:spPr>
          <a:xfrm>
            <a:off x="1982880" y="2805120"/>
            <a:ext cx="1212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Line 4"/>
          <p:cNvSpPr/>
          <p:nvPr/>
        </p:nvSpPr>
        <p:spPr>
          <a:xfrm>
            <a:off x="4068720" y="4840200"/>
            <a:ext cx="1320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Line 5"/>
          <p:cNvSpPr/>
          <p:nvPr/>
        </p:nvSpPr>
        <p:spPr>
          <a:xfrm>
            <a:off x="4076640" y="3510000"/>
            <a:ext cx="1311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Line 6"/>
          <p:cNvSpPr/>
          <p:nvPr/>
        </p:nvSpPr>
        <p:spPr>
          <a:xfrm>
            <a:off x="4060800" y="2585880"/>
            <a:ext cx="13114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5532480" y="2465280"/>
            <a:ext cx="108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Arial"/>
                <a:ea typeface="HG Mincho Light J"/>
              </a:rPr>
              <a:t>Nomb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5477040" y="3340080"/>
            <a:ext cx="3303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Arial"/>
                <a:ea typeface="HG Mincho Light J"/>
              </a:rPr>
              <a:t>Datos/Atributos/Camp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5411880" y="4632480"/>
            <a:ext cx="3592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Arial"/>
                <a:ea typeface="HG Mincho Light J"/>
              </a:rPr>
              <a:t>Métodos/Servicios/Interfaz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l envío de mensajes es la única forma para que un objeto realice una oper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Las operaciones son la única forma para cambiar el estado de los dat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uando esto se cumple, se dice que el estado interno del objeto (el valor de sus datos) está </a:t>
            </a:r>
            <a:r>
              <a:rPr b="0" i="1" lang="en-GB" sz="2800" spc="-1" strike="noStrike">
                <a:solidFill>
                  <a:srgbClr val="40458c"/>
                </a:solidFill>
                <a:latin typeface="Tahoma"/>
              </a:rPr>
              <a:t>encapsulado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; éste no puede ser manipulado directamente desde el exterior y su representación concreta es invisible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660066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40458c"/>
                </a:solidFill>
                <a:latin typeface="Tahoma"/>
              </a:rPr>
              <a:t>Abstracció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40458c"/>
                </a:solidFill>
                <a:latin typeface="Tahoma"/>
              </a:rPr>
              <a:t>Mecanismo de la mente humana fundamental para la comprensión de fenómenos o situaciones que involucren una gran cantidad de detal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40458c"/>
                </a:solidFill>
                <a:latin typeface="Tahoma"/>
              </a:rPr>
              <a:t>En biología los seres vivos se clasifican en especies, géneros, clases, órdenes, etc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660066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40458c"/>
                </a:solidFill>
                <a:latin typeface="Tahoma"/>
              </a:rPr>
              <a:t>Abstracción ( cont...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40458c"/>
                </a:solidFill>
                <a:latin typeface="Tahoma"/>
              </a:rPr>
              <a:t>Proceso mental que tiene dos aspectos complementari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40458c"/>
                </a:solidFill>
                <a:latin typeface="Tahoma"/>
              </a:rPr>
              <a:t>El aspecto de destacar los detalles relevantes del objeto de estud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40458c"/>
                </a:solidFill>
                <a:latin typeface="Tahoma"/>
              </a:rPr>
              <a:t>El aspecto de ignorar los detalles irrelevantes del obje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660066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40458c"/>
                </a:solidFill>
                <a:latin typeface="Tahoma"/>
              </a:rPr>
              <a:t>Tipo Abstracto de Datos (TAD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CO" sz="3200" spc="-1" strike="noStrike">
                <a:solidFill>
                  <a:srgbClr val="40458c"/>
                </a:solidFill>
                <a:latin typeface="Tahoma"/>
              </a:rPr>
              <a:t>Un tipo abstracto de datos es una colección de valores y de operaciones que se definen mediante una especificación que es independiente de cualquier representacion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0010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689"/>
              </a:spcBef>
              <a:buSzPct val="12926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bstracción y encapsulamient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87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La abstracción se centra en el comportamiento observable de un objeto, el encapsulamiento se centra en la implementación que da lugar a ese comportami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600" spc="-1" strike="noStrike">
                <a:solidFill>
                  <a:srgbClr val="40458c"/>
                </a:solidFill>
                <a:latin typeface="Tahoma"/>
              </a:rPr>
              <a:t>”</a:t>
            </a:r>
            <a:r>
              <a:rPr b="0" i="1" lang="en-GB" sz="2600" spc="-1" strike="noStrike">
                <a:solidFill>
                  <a:srgbClr val="40458c"/>
                </a:solidFill>
                <a:latin typeface="Tahoma"/>
              </a:rPr>
              <a:t>encapsulamiento es el proceso de almacenar en un mismo lugar los elementos de una abstracción que constituyen su estructura y su comportamiento; sirve para separar la interfaz contractual de una abstracción de su implantación." [Booch96]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1"/>
          <p:cNvGrpSpPr/>
          <p:nvPr/>
        </p:nvGrpSpPr>
        <p:grpSpPr>
          <a:xfrm>
            <a:off x="2689200" y="3181320"/>
            <a:ext cx="5203800" cy="2120760"/>
            <a:chOff x="2689200" y="3181320"/>
            <a:chExt cx="5203800" cy="2120760"/>
          </a:xfrm>
        </p:grpSpPr>
        <p:sp>
          <p:nvSpPr>
            <p:cNvPr id="438" name="AutoShape 2"/>
            <p:cNvSpPr/>
            <p:nvPr/>
          </p:nvSpPr>
          <p:spPr>
            <a:xfrm>
              <a:off x="2689200" y="3181320"/>
              <a:ext cx="5203800" cy="2120760"/>
            </a:xfrm>
            <a:prstGeom prst="roundRect">
              <a:avLst>
                <a:gd name="adj" fmla="val 7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9" name="Text Box 3"/>
            <p:cNvSpPr/>
            <p:nvPr/>
          </p:nvSpPr>
          <p:spPr>
            <a:xfrm>
              <a:off x="2689200" y="3181320"/>
              <a:ext cx="5203800" cy="10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lnSpc>
                  <a:spcPct val="93000"/>
                </a:lnSpc>
                <a:spcBef>
                  <a:spcPts val="68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  <a:p>
              <a:pPr lvl="1" marL="741240" indent="-284040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l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escribe un conjunto de objetos del Contexto del Problema, que tienen las mismas características y el mismo comportami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5089680" y="4006800"/>
            <a:ext cx="6267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AutoShape 24"/>
          <p:cNvSpPr/>
          <p:nvPr/>
        </p:nvSpPr>
        <p:spPr>
          <a:xfrm>
            <a:off x="704880" y="4672080"/>
            <a:ext cx="5745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AutoShape 29"/>
          <p:cNvSpPr/>
          <p:nvPr/>
        </p:nvSpPr>
        <p:spPr>
          <a:xfrm>
            <a:off x="3014640" y="3994200"/>
            <a:ext cx="6271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45" name="Picture 40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60339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660066"/>
                </a:solidFill>
                <a:latin typeface="Tahoma"/>
              </a:rPr>
              <a:t>Referencias ( 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3000"/>
              </a:lnSpc>
              <a:spcBef>
                <a:spcPts val="649"/>
              </a:spcBef>
              <a:buClr>
                <a:srgbClr val="6f89f7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Larman, G., “</a:t>
            </a:r>
            <a:r>
              <a:rPr b="1" i="1" lang="en-GB" sz="2600" spc="-1" strike="noStrike">
                <a:solidFill>
                  <a:srgbClr val="40458c"/>
                </a:solidFill>
                <a:latin typeface="Tahoma"/>
              </a:rPr>
              <a:t>Applying  UML and Patterns: An Introduction to Object-Oriented Analysis and Design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”, prentice-Hall, 1998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spcBef>
                <a:spcPts val="286"/>
              </a:spcBef>
              <a:spcAft>
                <a:spcPts val="286"/>
              </a:spcAft>
              <a:buClr>
                <a:srgbClr val="6f89f7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Booch, Grady., “El Lenguaje Unificado de Modelado </a:t>
            </a:r>
            <a:r>
              <a:rPr b="1" i="1" lang="en-GB" sz="2600" spc="-1" strike="noStrike">
                <a:solidFill>
                  <a:srgbClr val="40458c"/>
                </a:solidFill>
                <a:latin typeface="Tahoma"/>
              </a:rPr>
              <a:t>UML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”, Addison-Wesley, 1998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spcBef>
                <a:spcPts val="286"/>
              </a:spcBef>
              <a:spcAft>
                <a:spcPts val="286"/>
              </a:spcAft>
              <a:buClr>
                <a:srgbClr val="6f89f7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Aguilar, Joyanes., “</a:t>
            </a:r>
            <a:r>
              <a:rPr b="1" lang="en-GB" sz="2600" spc="-1" strike="noStrike">
                <a:solidFill>
                  <a:srgbClr val="40458c"/>
                </a:solidFill>
                <a:latin typeface="Tahoma"/>
              </a:rPr>
              <a:t>Programación Orientada a Objetos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”, Mc. Graw Hill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spcBef>
                <a:spcPts val="286"/>
              </a:spcBef>
              <a:spcAft>
                <a:spcPts val="286"/>
              </a:spcAft>
              <a:buClr>
                <a:srgbClr val="6f89f7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O" sz="2600" spc="-1" strike="noStrike">
                <a:solidFill>
                  <a:srgbClr val="40458c"/>
                </a:solidFill>
                <a:latin typeface="Tahoma"/>
              </a:rPr>
              <a:t>Rumbaugh, James., “</a:t>
            </a:r>
            <a:r>
              <a:rPr b="1" lang="es-CO" sz="2600" spc="-1" strike="noStrike">
                <a:solidFill>
                  <a:srgbClr val="40458c"/>
                </a:solidFill>
                <a:latin typeface="Tahoma"/>
              </a:rPr>
              <a:t>Modelaje y Diseño Orientado a Objetos</a:t>
            </a:r>
            <a:r>
              <a:rPr b="0" lang="es-CO" sz="2600" spc="-1" strike="noStrike">
                <a:solidFill>
                  <a:srgbClr val="40458c"/>
                </a:solidFill>
                <a:latin typeface="Tahoma"/>
              </a:rPr>
              <a:t>”, Prentice Hall, 1990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La noción de Clase viene de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clasificació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: agrupar (en un conjunto) objetos (elementos) que se comportan de la misma manera (con respecto a la interfaz que describe el comportamiento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2"/>
          <a:stretch/>
        </p:blipFill>
        <p:spPr>
          <a:xfrm>
            <a:off x="3276720" y="3352680"/>
            <a:ext cx="2155680" cy="26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etáfora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701640" y="2406600"/>
            <a:ext cx="48704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2" name="Picture 5" descr=""/>
          <p:cNvPicPr/>
          <p:nvPr/>
        </p:nvPicPr>
        <p:blipFill>
          <a:blip r:embed="rId2"/>
          <a:stretch/>
        </p:blipFill>
        <p:spPr>
          <a:xfrm>
            <a:off x="2057400" y="2286000"/>
            <a:ext cx="487044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gregación/Composi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Permite abstraer relaciones de tipo </a:t>
            </a:r>
            <a:r>
              <a:rPr b="0" i="1" lang="en-GB" sz="2800" spc="-1" strike="noStrike">
                <a:solidFill>
                  <a:srgbClr val="ff6633"/>
                </a:solidFill>
                <a:latin typeface="Tahoma"/>
              </a:rPr>
              <a:t>...tiene...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0" i="1" lang="en-GB" sz="2800" spc="-1" strike="noStrike">
                <a:solidFill>
                  <a:srgbClr val="ff6633"/>
                </a:solidFill>
                <a:latin typeface="Tahoma"/>
              </a:rPr>
              <a:t>... está compuesto de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774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696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soci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Permite abstraer relaciones entre objetos diferentes a la composi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2"/>
          <a:stretch/>
        </p:blipFill>
        <p:spPr>
          <a:xfrm>
            <a:off x="1930320" y="3633840"/>
            <a:ext cx="5543640" cy="22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495324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renci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Los objetos se organizan en jerarquí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61" name="Group 3"/>
          <p:cNvGrpSpPr/>
          <p:nvPr/>
        </p:nvGrpSpPr>
        <p:grpSpPr>
          <a:xfrm>
            <a:off x="1447920" y="2286000"/>
            <a:ext cx="5641560" cy="3924360"/>
            <a:chOff x="1447920" y="2286000"/>
            <a:chExt cx="5641560" cy="3924360"/>
          </a:xfrm>
        </p:grpSpPr>
        <p:grpSp>
          <p:nvGrpSpPr>
            <p:cNvPr id="462" name="Group 4"/>
            <p:cNvGrpSpPr/>
            <p:nvPr/>
          </p:nvGrpSpPr>
          <p:grpSpPr>
            <a:xfrm>
              <a:off x="4261680" y="2286000"/>
              <a:ext cx="1788480" cy="498240"/>
              <a:chOff x="4261680" y="2286000"/>
              <a:chExt cx="1788480" cy="498240"/>
            </a:xfrm>
          </p:grpSpPr>
          <p:sp>
            <p:nvSpPr>
              <p:cNvPr id="463" name="AutoShape 5"/>
              <p:cNvSpPr/>
              <p:nvPr/>
            </p:nvSpPr>
            <p:spPr>
              <a:xfrm>
                <a:off x="4374720" y="2286000"/>
                <a:ext cx="1557000" cy="498240"/>
              </a:xfrm>
              <a:prstGeom prst="roundRect">
                <a:avLst>
                  <a:gd name="adj" fmla="val 31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4" name="Text Box 6"/>
              <p:cNvSpPr/>
              <p:nvPr/>
            </p:nvSpPr>
            <p:spPr>
              <a:xfrm>
                <a:off x="4261680" y="2318400"/>
                <a:ext cx="178848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Vertebrado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65" name="Group 7"/>
            <p:cNvGrpSpPr/>
            <p:nvPr/>
          </p:nvGrpSpPr>
          <p:grpSpPr>
            <a:xfrm>
              <a:off x="2444760" y="3531960"/>
              <a:ext cx="1557000" cy="498600"/>
              <a:chOff x="2444760" y="3531960"/>
              <a:chExt cx="1557000" cy="498600"/>
            </a:xfrm>
          </p:grpSpPr>
          <p:sp>
            <p:nvSpPr>
              <p:cNvPr id="466" name="AutoShape 8"/>
              <p:cNvSpPr/>
              <p:nvPr/>
            </p:nvSpPr>
            <p:spPr>
              <a:xfrm>
                <a:off x="2444760" y="3531960"/>
                <a:ext cx="1557000" cy="498600"/>
              </a:xfrm>
              <a:prstGeom prst="roundRect">
                <a:avLst>
                  <a:gd name="adj" fmla="val 31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7" name="Text Box 9"/>
              <p:cNvSpPr/>
              <p:nvPr/>
            </p:nvSpPr>
            <p:spPr>
              <a:xfrm>
                <a:off x="2453400" y="3564360"/>
                <a:ext cx="15372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Mamifero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68" name="Group 10"/>
            <p:cNvGrpSpPr/>
            <p:nvPr/>
          </p:nvGrpSpPr>
          <p:grpSpPr>
            <a:xfrm>
              <a:off x="1447920" y="4714920"/>
              <a:ext cx="1557000" cy="498240"/>
              <a:chOff x="1447920" y="4714920"/>
              <a:chExt cx="1557000" cy="498240"/>
            </a:xfrm>
          </p:grpSpPr>
          <p:sp>
            <p:nvSpPr>
              <p:cNvPr id="469" name="AutoShape 11"/>
              <p:cNvSpPr/>
              <p:nvPr/>
            </p:nvSpPr>
            <p:spPr>
              <a:xfrm>
                <a:off x="1447920" y="4714920"/>
                <a:ext cx="1557000" cy="498240"/>
              </a:xfrm>
              <a:prstGeom prst="roundRect">
                <a:avLst>
                  <a:gd name="adj" fmla="val 31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0" name="Text Box 12"/>
              <p:cNvSpPr/>
              <p:nvPr/>
            </p:nvSpPr>
            <p:spPr>
              <a:xfrm>
                <a:off x="1619280" y="4747320"/>
                <a:ext cx="121248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Canino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71" name="Group 13"/>
            <p:cNvGrpSpPr/>
            <p:nvPr/>
          </p:nvGrpSpPr>
          <p:grpSpPr>
            <a:xfrm>
              <a:off x="3752640" y="4714920"/>
              <a:ext cx="1557000" cy="498240"/>
              <a:chOff x="3752640" y="4714920"/>
              <a:chExt cx="1557000" cy="498240"/>
            </a:xfrm>
          </p:grpSpPr>
          <p:sp>
            <p:nvSpPr>
              <p:cNvPr id="472" name="AutoShape 14"/>
              <p:cNvSpPr/>
              <p:nvPr/>
            </p:nvSpPr>
            <p:spPr>
              <a:xfrm>
                <a:off x="3752640" y="4714920"/>
                <a:ext cx="1557000" cy="498240"/>
              </a:xfrm>
              <a:prstGeom prst="roundRect">
                <a:avLst>
                  <a:gd name="adj" fmla="val 31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3" name="Text Box 15"/>
              <p:cNvSpPr/>
              <p:nvPr/>
            </p:nvSpPr>
            <p:spPr>
              <a:xfrm>
                <a:off x="3990960" y="4747320"/>
                <a:ext cx="10782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Felino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74" name="Group 16"/>
            <p:cNvGrpSpPr/>
            <p:nvPr/>
          </p:nvGrpSpPr>
          <p:grpSpPr>
            <a:xfrm>
              <a:off x="2666160" y="5711760"/>
              <a:ext cx="1738080" cy="498600"/>
              <a:chOff x="2666160" y="5711760"/>
              <a:chExt cx="1738080" cy="498600"/>
            </a:xfrm>
          </p:grpSpPr>
          <p:sp>
            <p:nvSpPr>
              <p:cNvPr id="475" name="AutoShape 17"/>
              <p:cNvSpPr/>
              <p:nvPr/>
            </p:nvSpPr>
            <p:spPr>
              <a:xfrm>
                <a:off x="2755440" y="5711760"/>
                <a:ext cx="1557000" cy="498600"/>
              </a:xfrm>
              <a:prstGeom prst="roundRect">
                <a:avLst>
                  <a:gd name="adj" fmla="val 31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6" name="Text Box 18"/>
              <p:cNvSpPr/>
              <p:nvPr/>
            </p:nvSpPr>
            <p:spPr>
              <a:xfrm>
                <a:off x="2666160" y="5744160"/>
                <a:ext cx="173808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Doméstico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77" name="Group 19"/>
            <p:cNvGrpSpPr/>
            <p:nvPr/>
          </p:nvGrpSpPr>
          <p:grpSpPr>
            <a:xfrm>
              <a:off x="4937040" y="5711760"/>
              <a:ext cx="1557000" cy="498600"/>
              <a:chOff x="4937040" y="5711760"/>
              <a:chExt cx="1557000" cy="498600"/>
            </a:xfrm>
          </p:grpSpPr>
          <p:sp>
            <p:nvSpPr>
              <p:cNvPr id="478" name="AutoShape 20"/>
              <p:cNvSpPr/>
              <p:nvPr/>
            </p:nvSpPr>
            <p:spPr>
              <a:xfrm>
                <a:off x="4937040" y="5711760"/>
                <a:ext cx="1557000" cy="498600"/>
              </a:xfrm>
              <a:prstGeom prst="roundRect">
                <a:avLst>
                  <a:gd name="adj" fmla="val 31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9" name="Text Box 21"/>
              <p:cNvSpPr/>
              <p:nvPr/>
            </p:nvSpPr>
            <p:spPr>
              <a:xfrm>
                <a:off x="5099040" y="5744160"/>
                <a:ext cx="12308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Salvaje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480" name="Freeform 22"/>
            <p:cNvSpPr/>
            <p:nvPr/>
          </p:nvSpPr>
          <p:spPr>
            <a:xfrm>
              <a:off x="4998960" y="2784240"/>
              <a:ext cx="310680" cy="24948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249480"/>
                <a:gd name="textAreaBottom" fmla="*/ 249480 h 249480"/>
              </a:gdLst>
              <a:ahLst/>
              <a:rect l="textAreaLeft" t="textAreaTop" r="textAreaRight" b="textAreaBottom"/>
              <a:pathLst>
                <a:path w="866" h="693">
                  <a:moveTo>
                    <a:pt x="432" y="0"/>
                  </a:moveTo>
                  <a:lnTo>
                    <a:pt x="865" y="692"/>
                  </a:lnTo>
                  <a:lnTo>
                    <a:pt x="0" y="692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1" name="Line 23"/>
            <p:cNvSpPr/>
            <p:nvPr/>
          </p:nvSpPr>
          <p:spPr>
            <a:xfrm flipV="1">
              <a:off x="3254400" y="3217320"/>
              <a:ext cx="108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2" name="Line 24"/>
            <p:cNvSpPr/>
            <p:nvPr/>
          </p:nvSpPr>
          <p:spPr>
            <a:xfrm>
              <a:off x="3254400" y="3219480"/>
              <a:ext cx="3612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3" name="Line 25"/>
            <p:cNvSpPr/>
            <p:nvPr/>
          </p:nvSpPr>
          <p:spPr>
            <a:xfrm flipV="1">
              <a:off x="5154480" y="30301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4" name="Line 26"/>
            <p:cNvSpPr/>
            <p:nvPr/>
          </p:nvSpPr>
          <p:spPr>
            <a:xfrm flipV="1">
              <a:off x="6867360" y="3217320"/>
              <a:ext cx="144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5" name="Freeform 27"/>
            <p:cNvSpPr/>
            <p:nvPr/>
          </p:nvSpPr>
          <p:spPr>
            <a:xfrm>
              <a:off x="3192480" y="4030560"/>
              <a:ext cx="310680" cy="24912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66" h="694">
                  <a:moveTo>
                    <a:pt x="432" y="0"/>
                  </a:moveTo>
                  <a:lnTo>
                    <a:pt x="865" y="693"/>
                  </a:lnTo>
                  <a:lnTo>
                    <a:pt x="0" y="693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6" name="Line 28"/>
            <p:cNvSpPr/>
            <p:nvPr/>
          </p:nvSpPr>
          <p:spPr>
            <a:xfrm>
              <a:off x="2008080" y="4465440"/>
              <a:ext cx="3052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7" name="Line 29"/>
            <p:cNvSpPr/>
            <p:nvPr/>
          </p:nvSpPr>
          <p:spPr>
            <a:xfrm flipV="1">
              <a:off x="3348000" y="4276440"/>
              <a:ext cx="108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8" name="Freeform 30"/>
            <p:cNvSpPr/>
            <p:nvPr/>
          </p:nvSpPr>
          <p:spPr>
            <a:xfrm>
              <a:off x="4500360" y="5213160"/>
              <a:ext cx="311040" cy="2494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49480"/>
                <a:gd name="textAreaBottom" fmla="*/ 249480 h 249480"/>
              </a:gdLst>
              <a:ahLst/>
              <a:rect l="textAreaLeft" t="textAreaTop" r="textAreaRight" b="textAreaBottom"/>
              <a:pathLst>
                <a:path w="866" h="693">
                  <a:moveTo>
                    <a:pt x="432" y="0"/>
                  </a:moveTo>
                  <a:lnTo>
                    <a:pt x="865" y="692"/>
                  </a:lnTo>
                  <a:lnTo>
                    <a:pt x="0" y="692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9" name="Line 31"/>
            <p:cNvSpPr/>
            <p:nvPr/>
          </p:nvSpPr>
          <p:spPr>
            <a:xfrm>
              <a:off x="3192480" y="5587920"/>
              <a:ext cx="255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0" name="Line 32"/>
            <p:cNvSpPr/>
            <p:nvPr/>
          </p:nvSpPr>
          <p:spPr>
            <a:xfrm>
              <a:off x="4655880" y="5462640"/>
              <a:ext cx="144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1" name="Line 33"/>
            <p:cNvSpPr/>
            <p:nvPr/>
          </p:nvSpPr>
          <p:spPr>
            <a:xfrm flipV="1">
              <a:off x="5746680" y="5586480"/>
              <a:ext cx="108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2" name="Line 34"/>
            <p:cNvSpPr/>
            <p:nvPr/>
          </p:nvSpPr>
          <p:spPr>
            <a:xfrm flipV="1">
              <a:off x="3192480" y="5586480"/>
              <a:ext cx="108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3" name="Line 35"/>
            <p:cNvSpPr/>
            <p:nvPr/>
          </p:nvSpPr>
          <p:spPr>
            <a:xfrm flipV="1">
              <a:off x="5060880" y="4463640"/>
              <a:ext cx="1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4" name="Line 36"/>
            <p:cNvSpPr/>
            <p:nvPr/>
          </p:nvSpPr>
          <p:spPr>
            <a:xfrm flipV="1">
              <a:off x="2008080" y="4463640"/>
              <a:ext cx="1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5" name="Text Box 37"/>
            <p:cNvSpPr/>
            <p:nvPr/>
          </p:nvSpPr>
          <p:spPr>
            <a:xfrm>
              <a:off x="6680160" y="3531960"/>
              <a:ext cx="4093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...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renci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La herencia permite modelar relaciones del tipo </a:t>
            </a:r>
            <a:r>
              <a:rPr b="0" i="1" lang="en-GB" sz="3200" spc="-1" strike="noStrike">
                <a:solidFill>
                  <a:srgbClr val="ff6633"/>
                </a:solidFill>
                <a:latin typeface="Tahoma"/>
              </a:rPr>
              <a:t>...es...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y clasificacion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n mamífero es un vertebra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n monitor es un estudia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98" name="Group 17"/>
          <p:cNvGrpSpPr/>
          <p:nvPr/>
        </p:nvGrpSpPr>
        <p:grpSpPr>
          <a:xfrm>
            <a:off x="2057760" y="3886200"/>
            <a:ext cx="4499280" cy="2066760"/>
            <a:chOff x="2057760" y="3886200"/>
            <a:chExt cx="4499280" cy="2066760"/>
          </a:xfrm>
        </p:grpSpPr>
        <p:sp>
          <p:nvSpPr>
            <p:cNvPr id="499" name="Line 3"/>
            <p:cNvSpPr/>
            <p:nvPr/>
          </p:nvSpPr>
          <p:spPr>
            <a:xfrm>
              <a:off x="3791160" y="4132080"/>
              <a:ext cx="1239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0" name="Text Box 4"/>
            <p:cNvSpPr/>
            <p:nvPr/>
          </p:nvSpPr>
          <p:spPr>
            <a:xfrm>
              <a:off x="5033880" y="3949560"/>
              <a:ext cx="15231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Superclase</a:t>
              </a:r>
              <a:br>
                <a:rPr sz="2400"/>
              </a:br>
              <a:r>
                <a:rPr b="0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(Tipo)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3768840" y="5424480"/>
              <a:ext cx="123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2" name="Text Box 6"/>
            <p:cNvSpPr/>
            <p:nvPr/>
          </p:nvSpPr>
          <p:spPr>
            <a:xfrm>
              <a:off x="5036040" y="5254560"/>
              <a:ext cx="12520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Subclase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(Subtipo)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03" name="Group 7"/>
            <p:cNvGrpSpPr/>
            <p:nvPr/>
          </p:nvGrpSpPr>
          <p:grpSpPr>
            <a:xfrm>
              <a:off x="2057760" y="3886200"/>
              <a:ext cx="1788480" cy="1757160"/>
              <a:chOff x="2057760" y="3886200"/>
              <a:chExt cx="1788480" cy="1757160"/>
            </a:xfrm>
          </p:grpSpPr>
          <p:grpSp>
            <p:nvGrpSpPr>
              <p:cNvPr id="504" name="Group 8"/>
              <p:cNvGrpSpPr/>
              <p:nvPr/>
            </p:nvGrpSpPr>
            <p:grpSpPr>
              <a:xfrm>
                <a:off x="2057760" y="3886200"/>
                <a:ext cx="1788480" cy="498240"/>
                <a:chOff x="2057760" y="3886200"/>
                <a:chExt cx="1788480" cy="498240"/>
              </a:xfrm>
            </p:grpSpPr>
            <p:sp>
              <p:nvSpPr>
                <p:cNvPr id="505" name="AutoShape 9"/>
                <p:cNvSpPr/>
                <p:nvPr/>
              </p:nvSpPr>
              <p:spPr>
                <a:xfrm>
                  <a:off x="2171880" y="3886200"/>
                  <a:ext cx="1557360" cy="498240"/>
                </a:xfrm>
                <a:prstGeom prst="roundRect">
                  <a:avLst>
                    <a:gd name="adj" fmla="val 315"/>
                  </a:avLst>
                </a:prstGeom>
                <a:solidFill>
                  <a:srgbClr val="ff66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6" name="Text Box 10"/>
                <p:cNvSpPr/>
                <p:nvPr/>
              </p:nvSpPr>
              <p:spPr>
                <a:xfrm>
                  <a:off x="2057760" y="3918600"/>
                  <a:ext cx="1788480" cy="433800"/>
                </a:xfrm>
                <a:prstGeom prst="rect">
                  <a:avLst/>
                </a:prstGeom>
                <a:solidFill>
                  <a:srgbClr val="ff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40458c"/>
                      </a:solidFill>
                      <a:latin typeface="Arial"/>
                      <a:ea typeface="HG Mincho Light J"/>
                    </a:rPr>
                    <a:t>Vertebrado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7" name="Group 11"/>
              <p:cNvGrpSpPr/>
              <p:nvPr/>
            </p:nvGrpSpPr>
            <p:grpSpPr>
              <a:xfrm>
                <a:off x="2146320" y="5145120"/>
                <a:ext cx="1557360" cy="498240"/>
                <a:chOff x="2146320" y="5145120"/>
                <a:chExt cx="1557360" cy="498240"/>
              </a:xfrm>
            </p:grpSpPr>
            <p:sp>
              <p:nvSpPr>
                <p:cNvPr id="508" name="AutoShape 12"/>
                <p:cNvSpPr/>
                <p:nvPr/>
              </p:nvSpPr>
              <p:spPr>
                <a:xfrm>
                  <a:off x="2146320" y="5145120"/>
                  <a:ext cx="1557360" cy="498240"/>
                </a:xfrm>
                <a:prstGeom prst="roundRect">
                  <a:avLst>
                    <a:gd name="adj" fmla="val 315"/>
                  </a:avLst>
                </a:prstGeom>
                <a:solidFill>
                  <a:srgbClr val="ff66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9" name="Text Box 13"/>
                <p:cNvSpPr/>
                <p:nvPr/>
              </p:nvSpPr>
              <p:spPr>
                <a:xfrm>
                  <a:off x="2155680" y="5177520"/>
                  <a:ext cx="1537200" cy="433800"/>
                </a:xfrm>
                <a:prstGeom prst="rect">
                  <a:avLst/>
                </a:prstGeom>
                <a:solidFill>
                  <a:srgbClr val="ff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40458c"/>
                      </a:solidFill>
                      <a:latin typeface="Arial"/>
                      <a:ea typeface="HG Mincho Light J"/>
                    </a:rPr>
                    <a:t>Mamifero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10" name="Freeform 14"/>
              <p:cNvSpPr/>
              <p:nvPr/>
            </p:nvSpPr>
            <p:spPr>
              <a:xfrm>
                <a:off x="2795760" y="4384440"/>
                <a:ext cx="311040" cy="24948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249480"/>
                  <a:gd name="textAreaBottom" fmla="*/ 249480 h 249480"/>
                </a:gdLst>
                <a:ahLst/>
                <a:rect l="textAreaLeft" t="textAreaTop" r="textAreaRight" b="textAreaBottom"/>
                <a:pathLst>
                  <a:path w="866" h="693">
                    <a:moveTo>
                      <a:pt x="432" y="0"/>
                    </a:moveTo>
                    <a:lnTo>
                      <a:pt x="865" y="692"/>
                    </a:lnTo>
                    <a:lnTo>
                      <a:pt x="0" y="692"/>
                    </a:lnTo>
                    <a:lnTo>
                      <a:pt x="432" y="0"/>
                    </a:lnTo>
                  </a:path>
                </a:pathLst>
              </a:custGeom>
              <a:solidFill>
                <a:srgbClr val="ff66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1" name="Line 15"/>
              <p:cNvSpPr/>
              <p:nvPr/>
            </p:nvSpPr>
            <p:spPr>
              <a:xfrm flipV="1">
                <a:off x="2951280" y="4630680"/>
                <a:ext cx="1440" cy="52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renci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92504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Relación de subtipaje (herencia)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i B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es subtipo d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A entonces cualquier objeto de tipo B puede ser usado en cualquier parte donde un objeto de tipo A puede ser us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3848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4876920" y="2743200"/>
            <a:ext cx="1557360" cy="498600"/>
            <a:chOff x="4876920" y="2743200"/>
            <a:chExt cx="1557360" cy="498600"/>
          </a:xfrm>
        </p:grpSpPr>
        <p:sp>
          <p:nvSpPr>
            <p:cNvPr id="516" name="AutoShape 3"/>
            <p:cNvSpPr/>
            <p:nvPr/>
          </p:nvSpPr>
          <p:spPr>
            <a:xfrm>
              <a:off x="4876920" y="2743200"/>
              <a:ext cx="1557360" cy="498600"/>
            </a:xfrm>
            <a:prstGeom prst="roundRect">
              <a:avLst>
                <a:gd name="adj" fmla="val 315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7" name="Text Box 4"/>
            <p:cNvSpPr/>
            <p:nvPr/>
          </p:nvSpPr>
          <p:spPr>
            <a:xfrm>
              <a:off x="5005440" y="2775600"/>
              <a:ext cx="1299240" cy="43380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Monito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18" name="Text Box 5"/>
          <p:cNvSpPr/>
          <p:nvPr/>
        </p:nvSpPr>
        <p:spPr>
          <a:xfrm>
            <a:off x="2894400" y="4418640"/>
            <a:ext cx="2635920" cy="43380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  <a:ea typeface="HG Mincho Light J"/>
              </a:rPr>
              <a:t>MonitorPregr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19" name="Group 6"/>
          <p:cNvGrpSpPr/>
          <p:nvPr/>
        </p:nvGrpSpPr>
        <p:grpSpPr>
          <a:xfrm>
            <a:off x="3124080" y="3200400"/>
            <a:ext cx="309600" cy="1218600"/>
            <a:chOff x="3124080" y="3200400"/>
            <a:chExt cx="309600" cy="1218600"/>
          </a:xfrm>
        </p:grpSpPr>
        <p:sp>
          <p:nvSpPr>
            <p:cNvPr id="520" name="Freeform 7"/>
            <p:cNvSpPr/>
            <p:nvPr/>
          </p:nvSpPr>
          <p:spPr>
            <a:xfrm>
              <a:off x="3124080" y="3200400"/>
              <a:ext cx="309600" cy="2271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866" h="693">
                  <a:moveTo>
                    <a:pt x="432" y="0"/>
                  </a:moveTo>
                  <a:lnTo>
                    <a:pt x="865" y="692"/>
                  </a:lnTo>
                  <a:lnTo>
                    <a:pt x="0" y="692"/>
                  </a:lnTo>
                  <a:lnTo>
                    <a:pt x="432" y="0"/>
                  </a:lnTo>
                </a:path>
              </a:pathLst>
            </a:custGeom>
            <a:solidFill>
              <a:srgbClr val="ff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1" name="Line 8"/>
            <p:cNvSpPr/>
            <p:nvPr/>
          </p:nvSpPr>
          <p:spPr>
            <a:xfrm flipV="1">
              <a:off x="3278880" y="3425760"/>
              <a:ext cx="1440" cy="9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22" name="Text Box 13"/>
          <p:cNvSpPr/>
          <p:nvPr/>
        </p:nvSpPr>
        <p:spPr>
          <a:xfrm>
            <a:off x="1389240" y="2742120"/>
            <a:ext cx="3074760" cy="43380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  <a:ea typeface="HG Mincho Light J"/>
              </a:rPr>
              <a:t>EstudiantePregr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3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Herencia Múltipl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24" name="Group 16"/>
          <p:cNvGrpSpPr/>
          <p:nvPr/>
        </p:nvGrpSpPr>
        <p:grpSpPr>
          <a:xfrm>
            <a:off x="5029200" y="3276720"/>
            <a:ext cx="309600" cy="1142640"/>
            <a:chOff x="5029200" y="3276720"/>
            <a:chExt cx="309600" cy="1142640"/>
          </a:xfrm>
        </p:grpSpPr>
        <p:sp>
          <p:nvSpPr>
            <p:cNvPr id="525" name="Freeform 17"/>
            <p:cNvSpPr/>
            <p:nvPr/>
          </p:nvSpPr>
          <p:spPr>
            <a:xfrm>
              <a:off x="5029200" y="3276720"/>
              <a:ext cx="309600" cy="2127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866" h="693">
                  <a:moveTo>
                    <a:pt x="432" y="0"/>
                  </a:moveTo>
                  <a:lnTo>
                    <a:pt x="865" y="692"/>
                  </a:lnTo>
                  <a:lnTo>
                    <a:pt x="0" y="692"/>
                  </a:lnTo>
                  <a:lnTo>
                    <a:pt x="432" y="0"/>
                  </a:lnTo>
                </a:path>
              </a:pathLst>
            </a:custGeom>
            <a:solidFill>
              <a:srgbClr val="ff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6" name="Line 18"/>
            <p:cNvSpPr/>
            <p:nvPr/>
          </p:nvSpPr>
          <p:spPr>
            <a:xfrm flipV="1">
              <a:off x="5184000" y="3488400"/>
              <a:ext cx="1440" cy="9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528" name="Group 2"/>
          <p:cNvGrpSpPr/>
          <p:nvPr/>
        </p:nvGrpSpPr>
        <p:grpSpPr>
          <a:xfrm>
            <a:off x="2859120" y="1886040"/>
            <a:ext cx="3303360" cy="3436560"/>
            <a:chOff x="2859120" y="1886040"/>
            <a:chExt cx="3303360" cy="3436560"/>
          </a:xfrm>
        </p:grpSpPr>
        <p:sp>
          <p:nvSpPr>
            <p:cNvPr id="529" name="AutoShape 3"/>
            <p:cNvSpPr/>
            <p:nvPr/>
          </p:nvSpPr>
          <p:spPr>
            <a:xfrm>
              <a:off x="2917440" y="1886040"/>
              <a:ext cx="3245040" cy="997560"/>
            </a:xfrm>
            <a:prstGeom prst="roundRect">
              <a:avLst>
                <a:gd name="adj" fmla="val 1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0" name="AutoShape 4"/>
            <p:cNvSpPr/>
            <p:nvPr/>
          </p:nvSpPr>
          <p:spPr>
            <a:xfrm>
              <a:off x="3076200" y="2014200"/>
              <a:ext cx="2770200" cy="740880"/>
            </a:xfrm>
            <a:prstGeom prst="roundRect">
              <a:avLst>
                <a:gd name="adj" fmla="val 21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1" name="Text Box 5"/>
            <p:cNvSpPr/>
            <p:nvPr/>
          </p:nvSpPr>
          <p:spPr>
            <a:xfrm>
              <a:off x="3771360" y="2161800"/>
              <a:ext cx="13435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ScrollBar</a:t>
              </a:r>
              <a:endParaRPr b="0" lang="en-US" sz="2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2" name="AutoShape 6"/>
            <p:cNvSpPr/>
            <p:nvPr/>
          </p:nvSpPr>
          <p:spPr>
            <a:xfrm>
              <a:off x="2859120" y="4324680"/>
              <a:ext cx="3245040" cy="997920"/>
            </a:xfrm>
            <a:prstGeom prst="roundRect">
              <a:avLst>
                <a:gd name="adj" fmla="val 1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3" name="Text Box 7"/>
            <p:cNvSpPr/>
            <p:nvPr/>
          </p:nvSpPr>
          <p:spPr>
            <a:xfrm>
              <a:off x="3864960" y="4619880"/>
              <a:ext cx="117864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Window</a:t>
              </a:r>
              <a:endParaRPr b="0" lang="en-US" sz="2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4" name="Freeform 8"/>
            <p:cNvSpPr/>
            <p:nvPr/>
          </p:nvSpPr>
          <p:spPr>
            <a:xfrm>
              <a:off x="4279320" y="2902680"/>
              <a:ext cx="648720" cy="679320"/>
            </a:xfrm>
            <a:custGeom>
              <a:avLst/>
              <a:gdLst>
                <a:gd name="textAreaLeft" fmla="*/ 0 w 648720"/>
                <a:gd name="textAreaRight" fmla="*/ 649080 w 64872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1805" h="1889">
                  <a:moveTo>
                    <a:pt x="902" y="0"/>
                  </a:moveTo>
                  <a:lnTo>
                    <a:pt x="0" y="1888"/>
                  </a:lnTo>
                  <a:lnTo>
                    <a:pt x="1804" y="1888"/>
                  </a:lnTo>
                  <a:lnTo>
                    <a:pt x="90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5" name="Line 9"/>
            <p:cNvSpPr/>
            <p:nvPr/>
          </p:nvSpPr>
          <p:spPr>
            <a:xfrm>
              <a:off x="4585320" y="3555360"/>
              <a:ext cx="1080" cy="7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537" name="Group 2"/>
          <p:cNvGrpSpPr/>
          <p:nvPr/>
        </p:nvGrpSpPr>
        <p:grpSpPr>
          <a:xfrm>
            <a:off x="2843280" y="2004840"/>
            <a:ext cx="3303000" cy="3436920"/>
            <a:chOff x="2843280" y="2004840"/>
            <a:chExt cx="3303000" cy="3436920"/>
          </a:xfrm>
        </p:grpSpPr>
        <p:sp>
          <p:nvSpPr>
            <p:cNvPr id="538" name="AutoShape 3"/>
            <p:cNvSpPr/>
            <p:nvPr/>
          </p:nvSpPr>
          <p:spPr>
            <a:xfrm>
              <a:off x="2901600" y="2004840"/>
              <a:ext cx="3244680" cy="997920"/>
            </a:xfrm>
            <a:prstGeom prst="roundRect">
              <a:avLst>
                <a:gd name="adj" fmla="val 1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9" name="AutoShape 4"/>
            <p:cNvSpPr/>
            <p:nvPr/>
          </p:nvSpPr>
          <p:spPr>
            <a:xfrm>
              <a:off x="3060360" y="2133360"/>
              <a:ext cx="2769840" cy="740880"/>
            </a:xfrm>
            <a:prstGeom prst="roundRect">
              <a:avLst>
                <a:gd name="adj" fmla="val 21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0" name="Text Box 5"/>
            <p:cNvSpPr/>
            <p:nvPr/>
          </p:nvSpPr>
          <p:spPr>
            <a:xfrm>
              <a:off x="3755160" y="2280960"/>
              <a:ext cx="13435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ScrollBar</a:t>
              </a:r>
              <a:endParaRPr b="0" lang="en-US" sz="2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1" name="AutoShape 6"/>
            <p:cNvSpPr/>
            <p:nvPr/>
          </p:nvSpPr>
          <p:spPr>
            <a:xfrm>
              <a:off x="2843280" y="4443840"/>
              <a:ext cx="3244680" cy="997920"/>
            </a:xfrm>
            <a:prstGeom prst="roundRect">
              <a:avLst>
                <a:gd name="adj" fmla="val 1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2" name="Text Box 7"/>
            <p:cNvSpPr/>
            <p:nvPr/>
          </p:nvSpPr>
          <p:spPr>
            <a:xfrm>
              <a:off x="3849120" y="4738680"/>
              <a:ext cx="117864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Window</a:t>
              </a:r>
              <a:endParaRPr b="0" lang="en-US" sz="2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3" name="Freeform 8"/>
            <p:cNvSpPr/>
            <p:nvPr/>
          </p:nvSpPr>
          <p:spPr>
            <a:xfrm>
              <a:off x="4263120" y="3021840"/>
              <a:ext cx="648720" cy="678960"/>
            </a:xfrm>
            <a:custGeom>
              <a:avLst/>
              <a:gdLst>
                <a:gd name="textAreaLeft" fmla="*/ 0 w 648720"/>
                <a:gd name="textAreaRight" fmla="*/ 649080 w 648720"/>
                <a:gd name="textAreaTop" fmla="*/ 0 h 678960"/>
                <a:gd name="textAreaBottom" fmla="*/ 679320 h 678960"/>
              </a:gdLst>
              <a:ahLst/>
              <a:rect l="textAreaLeft" t="textAreaTop" r="textAreaRight" b="textAreaBottom"/>
              <a:pathLst>
                <a:path w="1805" h="1889">
                  <a:moveTo>
                    <a:pt x="902" y="0"/>
                  </a:moveTo>
                  <a:lnTo>
                    <a:pt x="0" y="1888"/>
                  </a:lnTo>
                  <a:lnTo>
                    <a:pt x="1804" y="1888"/>
                  </a:lnTo>
                  <a:lnTo>
                    <a:pt x="90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4" name="Line 9"/>
            <p:cNvSpPr/>
            <p:nvPr/>
          </p:nvSpPr>
          <p:spPr>
            <a:xfrm>
              <a:off x="4569480" y="3674520"/>
              <a:ext cx="1080" cy="7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45" name="Line 10"/>
          <p:cNvSpPr/>
          <p:nvPr/>
        </p:nvSpPr>
        <p:spPr>
          <a:xfrm>
            <a:off x="2362320" y="2048040"/>
            <a:ext cx="4267080" cy="3352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Line 11"/>
          <p:cNvSpPr/>
          <p:nvPr/>
        </p:nvSpPr>
        <p:spPr>
          <a:xfrm flipH="1">
            <a:off x="2360520" y="2048040"/>
            <a:ext cx="4270320" cy="3352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ntroducción a la Programación Orientada por Obje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nceptos bási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bstra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Herenc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Relaciones entre clas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Polimorfism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42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La regla de oro de la herencia: </a:t>
            </a:r>
            <a:r>
              <a:rPr b="0" lang="en-GB" sz="2800" spc="-1" strike="noStrike">
                <a:solidFill>
                  <a:srgbClr val="ff6633"/>
                </a:solidFill>
                <a:latin typeface="Tahoma"/>
              </a:rPr>
              <a:t>..</a:t>
            </a:r>
            <a:r>
              <a:rPr b="1" i="1" lang="en-GB" sz="2800" spc="-1" strike="noStrike">
                <a:solidFill>
                  <a:srgbClr val="ff6633"/>
                </a:solidFill>
                <a:latin typeface="Tahoma"/>
              </a:rPr>
              <a:t>es un</a:t>
            </a:r>
            <a:r>
              <a:rPr b="0" lang="en-GB" sz="2800" spc="-1" strike="noStrike">
                <a:solidFill>
                  <a:srgbClr val="ff6633"/>
                </a:solidFill>
                <a:latin typeface="Tahoma"/>
              </a:rPr>
              <a:t>...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uando teng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Forme la frase ``A es un B''. Si es correcto, entonces A puede ser subclase de 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3657600" y="2895480"/>
            <a:ext cx="1584360" cy="1757520"/>
            <a:chOff x="3657600" y="2895480"/>
            <a:chExt cx="1584360" cy="1757520"/>
          </a:xfrm>
        </p:grpSpPr>
        <p:grpSp>
          <p:nvGrpSpPr>
            <p:cNvPr id="550" name="Group 4"/>
            <p:cNvGrpSpPr/>
            <p:nvPr/>
          </p:nvGrpSpPr>
          <p:grpSpPr>
            <a:xfrm>
              <a:off x="3684600" y="2895480"/>
              <a:ext cx="1557360" cy="498600"/>
              <a:chOff x="3684600" y="2895480"/>
              <a:chExt cx="1557360" cy="498600"/>
            </a:xfrm>
          </p:grpSpPr>
          <p:sp>
            <p:nvSpPr>
              <p:cNvPr id="551" name="AutoShape 5"/>
              <p:cNvSpPr/>
              <p:nvPr/>
            </p:nvSpPr>
            <p:spPr>
              <a:xfrm>
                <a:off x="3684600" y="2895480"/>
                <a:ext cx="1557360" cy="498600"/>
              </a:xfrm>
              <a:prstGeom prst="roundRect">
                <a:avLst>
                  <a:gd name="adj" fmla="val 315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4262400" y="2927520"/>
                <a:ext cx="400320" cy="433800"/>
              </a:xfrm>
              <a:prstGeom prst="rect">
                <a:avLst/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B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553" name="Group 7"/>
            <p:cNvGrpSpPr/>
            <p:nvPr/>
          </p:nvGrpSpPr>
          <p:grpSpPr>
            <a:xfrm>
              <a:off x="3657600" y="4154400"/>
              <a:ext cx="1557360" cy="498600"/>
              <a:chOff x="3657600" y="4154400"/>
              <a:chExt cx="1557360" cy="498600"/>
            </a:xfrm>
          </p:grpSpPr>
          <p:sp>
            <p:nvSpPr>
              <p:cNvPr id="554" name="AutoShape 8"/>
              <p:cNvSpPr/>
              <p:nvPr/>
            </p:nvSpPr>
            <p:spPr>
              <a:xfrm>
                <a:off x="3657600" y="4154400"/>
                <a:ext cx="1557360" cy="498600"/>
              </a:xfrm>
              <a:prstGeom prst="roundRect">
                <a:avLst>
                  <a:gd name="adj" fmla="val 315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55" name="Text Box 9"/>
              <p:cNvSpPr/>
              <p:nvPr/>
            </p:nvSpPr>
            <p:spPr>
              <a:xfrm>
                <a:off x="4236120" y="4186440"/>
                <a:ext cx="400320" cy="433800"/>
              </a:xfrm>
              <a:prstGeom prst="rect">
                <a:avLst/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40458c"/>
                    </a:solidFill>
                    <a:latin typeface="Arial"/>
                    <a:ea typeface="HG Mincho Light J"/>
                  </a:rPr>
                  <a:t>A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556" name="Freeform 10"/>
            <p:cNvSpPr/>
            <p:nvPr/>
          </p:nvSpPr>
          <p:spPr>
            <a:xfrm>
              <a:off x="4307040" y="3394080"/>
              <a:ext cx="311040" cy="24912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66" h="693">
                  <a:moveTo>
                    <a:pt x="432" y="0"/>
                  </a:moveTo>
                  <a:lnTo>
                    <a:pt x="865" y="692"/>
                  </a:lnTo>
                  <a:lnTo>
                    <a:pt x="0" y="692"/>
                  </a:lnTo>
                  <a:lnTo>
                    <a:pt x="432" y="0"/>
                  </a:lnTo>
                </a:path>
              </a:pathLst>
            </a:custGeom>
            <a:solidFill>
              <a:srgbClr val="ff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7" name="Line 11"/>
            <p:cNvSpPr/>
            <p:nvPr/>
          </p:nvSpPr>
          <p:spPr>
            <a:xfrm flipV="1">
              <a:off x="4462560" y="3639960"/>
              <a:ext cx="144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44960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olimorfism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s la posibilidad de definir de forma distinta un método,dependiendo del objeto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Freeform 3"/>
          <p:cNvSpPr/>
          <p:nvPr/>
        </p:nvSpPr>
        <p:spPr>
          <a:xfrm>
            <a:off x="1398600" y="3522600"/>
            <a:ext cx="1057320" cy="91440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938" h="2541">
                <a:moveTo>
                  <a:pt x="1468" y="0"/>
                </a:moveTo>
                <a:lnTo>
                  <a:pt x="2937" y="2540"/>
                </a:lnTo>
                <a:lnTo>
                  <a:pt x="0" y="2540"/>
                </a:lnTo>
                <a:lnTo>
                  <a:pt x="1468" y="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4037040" y="3522600"/>
            <a:ext cx="914400" cy="914400"/>
          </a:xfrm>
          <a:prstGeom prst="roundRect">
            <a:avLst>
              <a:gd name="adj" fmla="val 17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2" name="Oval 5"/>
          <p:cNvSpPr/>
          <p:nvPr/>
        </p:nvSpPr>
        <p:spPr>
          <a:xfrm>
            <a:off x="6756480" y="35226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3353040" y="4741920"/>
            <a:ext cx="27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58c"/>
                </a:solidFill>
                <a:latin typeface="Courier New"/>
                <a:ea typeface="HG Mincho Light J"/>
              </a:rPr>
              <a:t>MiCuadrado.pintar(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6164280" y="4741920"/>
            <a:ext cx="26496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58c"/>
                </a:solidFill>
                <a:latin typeface="Courier New"/>
                <a:ea typeface="HG Mincho Light J"/>
              </a:rPr>
              <a:t>MiCirculo.pintar(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351000" y="4741920"/>
            <a:ext cx="2923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58c"/>
                </a:solidFill>
                <a:latin typeface="Courier New"/>
                <a:ea typeface="HG Mincho Light J"/>
              </a:rPr>
              <a:t>MiTriangulo.pintar(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774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olimorfism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7" name="Freeform 2"/>
          <p:cNvSpPr/>
          <p:nvPr/>
        </p:nvSpPr>
        <p:spPr>
          <a:xfrm>
            <a:off x="762120" y="2286000"/>
            <a:ext cx="457200" cy="395280"/>
          </a:xfrm>
          <a:custGeom>
            <a:avLst/>
            <a:gdLst>
              <a:gd name="textAreaLeft" fmla="*/ 0 w 457200"/>
              <a:gd name="textAreaRight" fmla="*/ 457560 w 457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271" h="1099">
                <a:moveTo>
                  <a:pt x="634" y="0"/>
                </a:moveTo>
                <a:lnTo>
                  <a:pt x="1270" y="1098"/>
                </a:lnTo>
                <a:lnTo>
                  <a:pt x="0" y="1098"/>
                </a:lnTo>
                <a:lnTo>
                  <a:pt x="634" y="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8" name="AutoShape 3"/>
          <p:cNvSpPr/>
          <p:nvPr/>
        </p:nvSpPr>
        <p:spPr>
          <a:xfrm>
            <a:off x="1523880" y="2286000"/>
            <a:ext cx="381240" cy="380880"/>
          </a:xfrm>
          <a:prstGeom prst="roundRect">
            <a:avLst>
              <a:gd name="adj" fmla="val 41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2362320" y="22860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685800" y="2133720"/>
            <a:ext cx="7848720" cy="685800"/>
          </a:xfrm>
          <a:prstGeom prst="roundRect">
            <a:avLst>
              <a:gd name="adj" fmla="val 2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Freeform 6"/>
          <p:cNvSpPr/>
          <p:nvPr/>
        </p:nvSpPr>
        <p:spPr>
          <a:xfrm>
            <a:off x="3200400" y="2286000"/>
            <a:ext cx="457200" cy="395280"/>
          </a:xfrm>
          <a:custGeom>
            <a:avLst/>
            <a:gdLst>
              <a:gd name="textAreaLeft" fmla="*/ 0 w 457200"/>
              <a:gd name="textAreaRight" fmla="*/ 457560 w 457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271" h="1099">
                <a:moveTo>
                  <a:pt x="316" y="0"/>
                </a:moveTo>
                <a:lnTo>
                  <a:pt x="952" y="0"/>
                </a:lnTo>
                <a:lnTo>
                  <a:pt x="1270" y="548"/>
                </a:lnTo>
                <a:lnTo>
                  <a:pt x="952" y="1098"/>
                </a:lnTo>
                <a:lnTo>
                  <a:pt x="316" y="1098"/>
                </a:lnTo>
                <a:lnTo>
                  <a:pt x="0" y="548"/>
                </a:lnTo>
                <a:lnTo>
                  <a:pt x="316" y="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2" name="Freeform 7"/>
          <p:cNvSpPr/>
          <p:nvPr/>
        </p:nvSpPr>
        <p:spPr>
          <a:xfrm>
            <a:off x="4114800" y="2286000"/>
            <a:ext cx="380880" cy="380880"/>
          </a:xfrm>
          <a:custGeom>
            <a:avLst/>
            <a:gdLst>
              <a:gd name="textAreaLeft" fmla="*/ 0 w 380880"/>
              <a:gd name="textAreaRight" fmla="*/ 381240 w 3808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059" h="1059">
                <a:moveTo>
                  <a:pt x="528" y="0"/>
                </a:moveTo>
                <a:lnTo>
                  <a:pt x="1058" y="528"/>
                </a:lnTo>
                <a:lnTo>
                  <a:pt x="528" y="1058"/>
                </a:lnTo>
                <a:lnTo>
                  <a:pt x="0" y="528"/>
                </a:lnTo>
                <a:lnTo>
                  <a:pt x="528" y="0"/>
                </a:lnTo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3" name="Freeform 8"/>
          <p:cNvSpPr/>
          <p:nvPr/>
        </p:nvSpPr>
        <p:spPr>
          <a:xfrm>
            <a:off x="4952880" y="2286000"/>
            <a:ext cx="381240" cy="380880"/>
          </a:xfrm>
          <a:custGeom>
            <a:avLst/>
            <a:gdLst>
              <a:gd name="textAreaLeft" fmla="*/ 0 w 381240"/>
              <a:gd name="textAreaRight" fmla="*/ 381600 w 3812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060" h="1059">
                <a:moveTo>
                  <a:pt x="0" y="403"/>
                </a:moveTo>
                <a:lnTo>
                  <a:pt x="529" y="0"/>
                </a:lnTo>
                <a:lnTo>
                  <a:pt x="1059" y="403"/>
                </a:lnTo>
                <a:lnTo>
                  <a:pt x="851" y="1058"/>
                </a:lnTo>
                <a:lnTo>
                  <a:pt x="206" y="1058"/>
                </a:lnTo>
                <a:lnTo>
                  <a:pt x="0" y="403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Line 9"/>
          <p:cNvSpPr/>
          <p:nvPr/>
        </p:nvSpPr>
        <p:spPr>
          <a:xfrm>
            <a:off x="1371600" y="21337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5" name="Line 10"/>
          <p:cNvSpPr/>
          <p:nvPr/>
        </p:nvSpPr>
        <p:spPr>
          <a:xfrm>
            <a:off x="2133720" y="21337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2971800" y="21337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Line 12"/>
          <p:cNvSpPr/>
          <p:nvPr/>
        </p:nvSpPr>
        <p:spPr>
          <a:xfrm>
            <a:off x="3886200" y="21337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8" name="Line 13"/>
          <p:cNvSpPr/>
          <p:nvPr/>
        </p:nvSpPr>
        <p:spPr>
          <a:xfrm>
            <a:off x="4724280" y="213372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Line 14"/>
          <p:cNvSpPr/>
          <p:nvPr/>
        </p:nvSpPr>
        <p:spPr>
          <a:xfrm>
            <a:off x="5486400" y="21337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066680" y="3209760"/>
            <a:ext cx="749592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Courier New"/>
                <a:ea typeface="HG Mincho Light J"/>
              </a:rPr>
              <a:t>for (int i = 1; arreglo.length(); i++)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Courier New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  <a:ea typeface="HG Mincho Light J"/>
              </a:rPr>
              <a:t>arreglo[i].pintar(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Courier New"/>
                <a:ea typeface="HG Mincho Light J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581280" y="58320"/>
            <a:ext cx="538488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olimorfism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4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l polimorfismo es posible gracias a la herenci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83" name="Group 3"/>
          <p:cNvGrpSpPr/>
          <p:nvPr/>
        </p:nvGrpSpPr>
        <p:grpSpPr>
          <a:xfrm>
            <a:off x="3683160" y="2933640"/>
            <a:ext cx="1555560" cy="496800"/>
            <a:chOff x="3683160" y="2933640"/>
            <a:chExt cx="1555560" cy="496800"/>
          </a:xfrm>
        </p:grpSpPr>
        <p:sp>
          <p:nvSpPr>
            <p:cNvPr id="584" name="AutoShape 4"/>
            <p:cNvSpPr/>
            <p:nvPr/>
          </p:nvSpPr>
          <p:spPr>
            <a:xfrm>
              <a:off x="3683160" y="2933640"/>
              <a:ext cx="1555560" cy="496800"/>
            </a:xfrm>
            <a:prstGeom prst="roundRect">
              <a:avLst>
                <a:gd name="adj" fmla="val 315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5" name="Text Box 5"/>
            <p:cNvSpPr/>
            <p:nvPr/>
          </p:nvSpPr>
          <p:spPr>
            <a:xfrm>
              <a:off x="3904920" y="2964960"/>
              <a:ext cx="1112040" cy="433800"/>
            </a:xfrm>
            <a:prstGeom prst="rect">
              <a:avLst/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Figur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86" name="Group 6"/>
          <p:cNvGrpSpPr/>
          <p:nvPr/>
        </p:nvGrpSpPr>
        <p:grpSpPr>
          <a:xfrm>
            <a:off x="3674880" y="4937040"/>
            <a:ext cx="1569240" cy="496800"/>
            <a:chOff x="3674880" y="4937040"/>
            <a:chExt cx="1569240" cy="496800"/>
          </a:xfrm>
        </p:grpSpPr>
        <p:sp>
          <p:nvSpPr>
            <p:cNvPr id="587" name="AutoShape 7"/>
            <p:cNvSpPr/>
            <p:nvPr/>
          </p:nvSpPr>
          <p:spPr>
            <a:xfrm>
              <a:off x="3679560" y="4937040"/>
              <a:ext cx="1555560" cy="496800"/>
            </a:xfrm>
            <a:prstGeom prst="roundRect">
              <a:avLst>
                <a:gd name="adj" fmla="val 315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8" name="Text Box 8"/>
            <p:cNvSpPr/>
            <p:nvPr/>
          </p:nvSpPr>
          <p:spPr>
            <a:xfrm>
              <a:off x="3674880" y="4968360"/>
              <a:ext cx="1569240" cy="433800"/>
            </a:xfrm>
            <a:prstGeom prst="rect">
              <a:avLst/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Triangulo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89" name="Freeform 9"/>
          <p:cNvSpPr/>
          <p:nvPr/>
        </p:nvSpPr>
        <p:spPr>
          <a:xfrm>
            <a:off x="4329000" y="3902040"/>
            <a:ext cx="311400" cy="339840"/>
          </a:xfrm>
          <a:custGeom>
            <a:avLst/>
            <a:gdLst>
              <a:gd name="textAreaLeft" fmla="*/ 0 w 311400"/>
              <a:gd name="textAreaRight" fmla="*/ 311760 w 3114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866" h="942">
                <a:moveTo>
                  <a:pt x="432" y="0"/>
                </a:moveTo>
                <a:lnTo>
                  <a:pt x="865" y="941"/>
                </a:lnTo>
                <a:lnTo>
                  <a:pt x="0" y="941"/>
                </a:lnTo>
                <a:lnTo>
                  <a:pt x="432" y="0"/>
                </a:lnTo>
              </a:path>
            </a:pathLst>
          </a:cu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Line 10"/>
          <p:cNvSpPr/>
          <p:nvPr/>
        </p:nvSpPr>
        <p:spPr>
          <a:xfrm flipV="1">
            <a:off x="4486320" y="4237200"/>
            <a:ext cx="1440" cy="70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91" name="Group 11"/>
          <p:cNvGrpSpPr/>
          <p:nvPr/>
        </p:nvGrpSpPr>
        <p:grpSpPr>
          <a:xfrm>
            <a:off x="3683160" y="3408480"/>
            <a:ext cx="1555560" cy="496800"/>
            <a:chOff x="3683160" y="3408480"/>
            <a:chExt cx="1555560" cy="496800"/>
          </a:xfrm>
        </p:grpSpPr>
        <p:sp>
          <p:nvSpPr>
            <p:cNvPr id="592" name="AutoShape 12"/>
            <p:cNvSpPr/>
            <p:nvPr/>
          </p:nvSpPr>
          <p:spPr>
            <a:xfrm>
              <a:off x="3683160" y="3408480"/>
              <a:ext cx="1555560" cy="496800"/>
            </a:xfrm>
            <a:prstGeom prst="roundRect">
              <a:avLst>
                <a:gd name="adj" fmla="val 315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3" name="Text Box 13"/>
            <p:cNvSpPr/>
            <p:nvPr/>
          </p:nvSpPr>
          <p:spPr>
            <a:xfrm>
              <a:off x="3793680" y="3439800"/>
              <a:ext cx="1334520" cy="433800"/>
            </a:xfrm>
            <a:prstGeom prst="rect">
              <a:avLst/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Pintar()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94" name="Line 14"/>
          <p:cNvSpPr/>
          <p:nvPr/>
        </p:nvSpPr>
        <p:spPr>
          <a:xfrm>
            <a:off x="2766960" y="4552920"/>
            <a:ext cx="3745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95" name="Group 15"/>
          <p:cNvGrpSpPr/>
          <p:nvPr/>
        </p:nvGrpSpPr>
        <p:grpSpPr>
          <a:xfrm>
            <a:off x="1926720" y="4894200"/>
            <a:ext cx="1600920" cy="496800"/>
            <a:chOff x="1926720" y="4894200"/>
            <a:chExt cx="1600920" cy="496800"/>
          </a:xfrm>
        </p:grpSpPr>
        <p:sp>
          <p:nvSpPr>
            <p:cNvPr id="596" name="AutoShape 16"/>
            <p:cNvSpPr/>
            <p:nvPr/>
          </p:nvSpPr>
          <p:spPr>
            <a:xfrm>
              <a:off x="1949040" y="4894200"/>
              <a:ext cx="1555560" cy="496800"/>
            </a:xfrm>
            <a:prstGeom prst="roundRect">
              <a:avLst>
                <a:gd name="adj" fmla="val 315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7" name="Text Box 17"/>
            <p:cNvSpPr/>
            <p:nvPr/>
          </p:nvSpPr>
          <p:spPr>
            <a:xfrm>
              <a:off x="1926720" y="4925520"/>
              <a:ext cx="1600920" cy="433800"/>
            </a:xfrm>
            <a:prstGeom prst="rect">
              <a:avLst/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Cuadrado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98" name="Line 18"/>
          <p:cNvSpPr/>
          <p:nvPr/>
        </p:nvSpPr>
        <p:spPr>
          <a:xfrm flipV="1">
            <a:off x="2754360" y="4551480"/>
            <a:ext cx="144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99" name="Group 19"/>
          <p:cNvGrpSpPr/>
          <p:nvPr/>
        </p:nvGrpSpPr>
        <p:grpSpPr>
          <a:xfrm>
            <a:off x="5703840" y="4903920"/>
            <a:ext cx="1555920" cy="496800"/>
            <a:chOff x="5703840" y="4903920"/>
            <a:chExt cx="1555920" cy="496800"/>
          </a:xfrm>
        </p:grpSpPr>
        <p:sp>
          <p:nvSpPr>
            <p:cNvPr id="600" name="AutoShape 20"/>
            <p:cNvSpPr/>
            <p:nvPr/>
          </p:nvSpPr>
          <p:spPr>
            <a:xfrm>
              <a:off x="5703840" y="4903920"/>
              <a:ext cx="1555920" cy="496800"/>
            </a:xfrm>
            <a:prstGeom prst="roundRect">
              <a:avLst>
                <a:gd name="adj" fmla="val 315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1" name="Text Box 21"/>
            <p:cNvSpPr/>
            <p:nvPr/>
          </p:nvSpPr>
          <p:spPr>
            <a:xfrm>
              <a:off x="5866200" y="4935240"/>
              <a:ext cx="1230840" cy="433800"/>
            </a:xfrm>
            <a:prstGeom prst="rect">
              <a:avLst/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40458c"/>
                  </a:solidFill>
                  <a:latin typeface="Arial"/>
                  <a:ea typeface="HG Mincho Light J"/>
                </a:rPr>
                <a:t>Circulo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02" name="Line 22"/>
          <p:cNvSpPr/>
          <p:nvPr/>
        </p:nvSpPr>
        <p:spPr>
          <a:xfrm flipV="1">
            <a:off x="6508800" y="4560840"/>
            <a:ext cx="144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57913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esumen Princip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4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odo es un obje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Los objetos realizan operaciones (computan) solicitando servicios entre ellos a través del paso de mensaj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odo objeto tiene su propia memoria, la cual consiste de otros obje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Todo objeto es una instancia de una clase. Una clase agrupa objetos simila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En la clase se describe el comportamiento de los objet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Las clases están organizadas en una jerarquía con una única raíz, llamada la jerarquía de here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16" name="Group 2"/>
          <p:cNvGrpSpPr/>
          <p:nvPr/>
        </p:nvGrpSpPr>
        <p:grpSpPr>
          <a:xfrm>
            <a:off x="834840" y="2282760"/>
            <a:ext cx="7904520" cy="2338560"/>
            <a:chOff x="834840" y="2282760"/>
            <a:chExt cx="7904520" cy="2338560"/>
          </a:xfrm>
        </p:grpSpPr>
        <p:sp>
          <p:nvSpPr>
            <p:cNvPr id="217" name="Line 3"/>
            <p:cNvSpPr/>
            <p:nvPr/>
          </p:nvSpPr>
          <p:spPr>
            <a:xfrm flipV="1">
              <a:off x="4980960" y="3352320"/>
              <a:ext cx="1080" cy="122868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8" name="Line 4"/>
            <p:cNvSpPr/>
            <p:nvPr/>
          </p:nvSpPr>
          <p:spPr>
            <a:xfrm flipV="1">
              <a:off x="6324120" y="2803680"/>
              <a:ext cx="1440" cy="166032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 flipV="1">
              <a:off x="8338680" y="2803320"/>
              <a:ext cx="1440" cy="160812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0" name="Text Box 6"/>
            <p:cNvSpPr/>
            <p:nvPr/>
          </p:nvSpPr>
          <p:spPr>
            <a:xfrm>
              <a:off x="834840" y="2282760"/>
              <a:ext cx="15490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Símula  (1961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 flipV="1">
              <a:off x="1463760" y="2607840"/>
              <a:ext cx="1440" cy="190836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2" name="Text Box 8"/>
            <p:cNvSpPr/>
            <p:nvPr/>
          </p:nvSpPr>
          <p:spPr>
            <a:xfrm>
              <a:off x="1460520" y="2610000"/>
              <a:ext cx="15490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Símula  (1967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 flipV="1">
              <a:off x="1816920" y="2972880"/>
              <a:ext cx="1080" cy="154332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4" name="Text Box 10"/>
            <p:cNvSpPr/>
            <p:nvPr/>
          </p:nvSpPr>
          <p:spPr>
            <a:xfrm>
              <a:off x="2246040" y="2962440"/>
              <a:ext cx="18738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SmallTalk (1972-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5" name="Line 11"/>
            <p:cNvSpPr/>
            <p:nvPr/>
          </p:nvSpPr>
          <p:spPr>
            <a:xfrm flipV="1">
              <a:off x="2828880" y="3233880"/>
              <a:ext cx="1440" cy="129528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6" name="Text Box 12"/>
            <p:cNvSpPr/>
            <p:nvPr/>
          </p:nvSpPr>
          <p:spPr>
            <a:xfrm>
              <a:off x="3475440" y="2297160"/>
              <a:ext cx="12535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C++ (1983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7" name="Line 13"/>
            <p:cNvSpPr/>
            <p:nvPr/>
          </p:nvSpPr>
          <p:spPr>
            <a:xfrm flipV="1">
              <a:off x="4104360" y="2620440"/>
              <a:ext cx="1080" cy="190836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8" name="Text Box 14"/>
            <p:cNvSpPr/>
            <p:nvPr/>
          </p:nvSpPr>
          <p:spPr>
            <a:xfrm>
              <a:off x="4305960" y="2610000"/>
              <a:ext cx="14227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Eiffel  (1985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9" name="Line 15"/>
            <p:cNvSpPr/>
            <p:nvPr/>
          </p:nvSpPr>
          <p:spPr>
            <a:xfrm flipV="1">
              <a:off x="4662360" y="2972880"/>
              <a:ext cx="1080" cy="154332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0" name="Text Box 16"/>
            <p:cNvSpPr/>
            <p:nvPr/>
          </p:nvSpPr>
          <p:spPr>
            <a:xfrm>
              <a:off x="6776640" y="2909880"/>
              <a:ext cx="14788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Java 1  (1995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" name="Line 17"/>
            <p:cNvSpPr/>
            <p:nvPr/>
          </p:nvSpPr>
          <p:spPr>
            <a:xfrm flipV="1">
              <a:off x="7165800" y="3168720"/>
              <a:ext cx="1440" cy="134784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2" name="Line 18"/>
            <p:cNvSpPr/>
            <p:nvPr/>
          </p:nvSpPr>
          <p:spPr>
            <a:xfrm flipV="1">
              <a:off x="3500640" y="3585960"/>
              <a:ext cx="1080" cy="942840"/>
            </a:xfrm>
            <a:prstGeom prst="line">
              <a:avLst/>
            </a:prstGeom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33" name="Group 19"/>
            <p:cNvGrpSpPr/>
            <p:nvPr/>
          </p:nvGrpSpPr>
          <p:grpSpPr>
            <a:xfrm>
              <a:off x="1213200" y="4273560"/>
              <a:ext cx="7158240" cy="347760"/>
              <a:chOff x="1213200" y="4273560"/>
              <a:chExt cx="7158240" cy="347760"/>
            </a:xfrm>
          </p:grpSpPr>
          <p:sp>
            <p:nvSpPr>
              <p:cNvPr id="234" name="Text Box 20"/>
              <p:cNvSpPr/>
              <p:nvPr/>
            </p:nvSpPr>
            <p:spPr>
              <a:xfrm>
                <a:off x="1213200" y="4273560"/>
                <a:ext cx="2389680" cy="34776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40458c"/>
                    </a:solidFill>
                    <a:latin typeface="Times New Roman"/>
                    <a:ea typeface="HG Mincho Light J"/>
                  </a:rPr>
                  <a:t>60-70's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5" name="Text Box 21"/>
              <p:cNvSpPr/>
              <p:nvPr/>
            </p:nvSpPr>
            <p:spPr>
              <a:xfrm>
                <a:off x="3604320" y="4273560"/>
                <a:ext cx="2389680" cy="34776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40458c"/>
                    </a:solidFill>
                    <a:latin typeface="Times New Roman"/>
                    <a:ea typeface="HG Mincho Light J"/>
                  </a:rPr>
                  <a:t>80's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6" name="Text Box 22"/>
              <p:cNvSpPr/>
              <p:nvPr/>
            </p:nvSpPr>
            <p:spPr>
              <a:xfrm>
                <a:off x="5983200" y="4273560"/>
                <a:ext cx="2388240" cy="34776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40458c"/>
                    </a:solidFill>
                    <a:latin typeface="Times New Roman"/>
                    <a:ea typeface="HG Mincho Light J"/>
                  </a:rPr>
                  <a:t>90's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237" name="Text Box 23"/>
            <p:cNvSpPr/>
            <p:nvPr/>
          </p:nvSpPr>
          <p:spPr>
            <a:xfrm>
              <a:off x="4728240" y="2922480"/>
              <a:ext cx="1268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Self  (1986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4728600" y="3132000"/>
              <a:ext cx="17838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Modula 3  (1986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9" name="Text Box 25"/>
            <p:cNvSpPr/>
            <p:nvPr/>
          </p:nvSpPr>
          <p:spPr>
            <a:xfrm>
              <a:off x="2919960" y="3313080"/>
              <a:ext cx="13539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ADA(1979-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0" name="Text Box 26"/>
            <p:cNvSpPr/>
            <p:nvPr/>
          </p:nvSpPr>
          <p:spPr>
            <a:xfrm>
              <a:off x="6003000" y="2517840"/>
              <a:ext cx="13953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Ruby  (1991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7688520" y="2452680"/>
              <a:ext cx="10508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C#(2000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43" name="Group 2"/>
          <p:cNvGrpSpPr/>
          <p:nvPr/>
        </p:nvGrpSpPr>
        <p:grpSpPr>
          <a:xfrm>
            <a:off x="758880" y="1839960"/>
            <a:ext cx="7675200" cy="2338560"/>
            <a:chOff x="758880" y="1839960"/>
            <a:chExt cx="7675200" cy="2338560"/>
          </a:xfrm>
        </p:grpSpPr>
        <p:sp>
          <p:nvSpPr>
            <p:cNvPr id="244" name="Line 3"/>
            <p:cNvSpPr/>
            <p:nvPr/>
          </p:nvSpPr>
          <p:spPr>
            <a:xfrm flipV="1">
              <a:off x="4765680" y="2909520"/>
              <a:ext cx="1080" cy="122868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5" name="Line 4"/>
            <p:cNvSpPr/>
            <p:nvPr/>
          </p:nvSpPr>
          <p:spPr>
            <a:xfrm flipV="1">
              <a:off x="6063840" y="2360160"/>
              <a:ext cx="1440" cy="166068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6" name="Line 5"/>
            <p:cNvSpPr/>
            <p:nvPr/>
          </p:nvSpPr>
          <p:spPr>
            <a:xfrm flipV="1">
              <a:off x="8010720" y="2360160"/>
              <a:ext cx="1440" cy="160812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7" name="Text Box 6"/>
            <p:cNvSpPr/>
            <p:nvPr/>
          </p:nvSpPr>
          <p:spPr>
            <a:xfrm>
              <a:off x="758880" y="1839960"/>
              <a:ext cx="15490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Símula  (1961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8" name="Line 7"/>
            <p:cNvSpPr/>
            <p:nvPr/>
          </p:nvSpPr>
          <p:spPr>
            <a:xfrm flipV="1">
              <a:off x="1366560" y="2165400"/>
              <a:ext cx="1440" cy="190800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9" name="Text Box 8"/>
            <p:cNvSpPr/>
            <p:nvPr/>
          </p:nvSpPr>
          <p:spPr>
            <a:xfrm>
              <a:off x="1363680" y="2166840"/>
              <a:ext cx="15490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Símula  (1967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0" name="Line 9"/>
            <p:cNvSpPr/>
            <p:nvPr/>
          </p:nvSpPr>
          <p:spPr>
            <a:xfrm flipV="1">
              <a:off x="1708200" y="2530440"/>
              <a:ext cx="1080" cy="154296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2120400" y="2517840"/>
              <a:ext cx="18738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SmallTalk (1972-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2" name="Line 11"/>
            <p:cNvSpPr/>
            <p:nvPr/>
          </p:nvSpPr>
          <p:spPr>
            <a:xfrm flipV="1">
              <a:off x="2686320" y="2790360"/>
              <a:ext cx="1440" cy="129564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3" name="Text Box 12"/>
            <p:cNvSpPr/>
            <p:nvPr/>
          </p:nvSpPr>
          <p:spPr>
            <a:xfrm>
              <a:off x="3312000" y="1852560"/>
              <a:ext cx="12535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C++ (1983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4" name="Line 13"/>
            <p:cNvSpPr/>
            <p:nvPr/>
          </p:nvSpPr>
          <p:spPr>
            <a:xfrm flipV="1">
              <a:off x="3918960" y="2177640"/>
              <a:ext cx="1080" cy="190836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5" name="Text Box 14"/>
            <p:cNvSpPr/>
            <p:nvPr/>
          </p:nvSpPr>
          <p:spPr>
            <a:xfrm>
              <a:off x="4114440" y="2166840"/>
              <a:ext cx="14227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Eiffel  (1985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6" name="Line 15"/>
            <p:cNvSpPr/>
            <p:nvPr/>
          </p:nvSpPr>
          <p:spPr>
            <a:xfrm flipV="1">
              <a:off x="4458240" y="2530440"/>
              <a:ext cx="1080" cy="154296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7" name="Text Box 16"/>
            <p:cNvSpPr/>
            <p:nvPr/>
          </p:nvSpPr>
          <p:spPr>
            <a:xfrm>
              <a:off x="6501240" y="2467080"/>
              <a:ext cx="14788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Java 1  (1995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8" name="Line 17"/>
            <p:cNvSpPr/>
            <p:nvPr/>
          </p:nvSpPr>
          <p:spPr>
            <a:xfrm flipV="1">
              <a:off x="6877440" y="2725560"/>
              <a:ext cx="1440" cy="134784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9" name="Line 18"/>
            <p:cNvSpPr/>
            <p:nvPr/>
          </p:nvSpPr>
          <p:spPr>
            <a:xfrm flipV="1">
              <a:off x="3335400" y="3143160"/>
              <a:ext cx="1080" cy="943200"/>
            </a:xfrm>
            <a:prstGeom prst="line">
              <a:avLst/>
            </a:prstGeom>
            <a:ln w="360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0" name="Group 19"/>
            <p:cNvGrpSpPr/>
            <p:nvPr/>
          </p:nvGrpSpPr>
          <p:grpSpPr>
            <a:xfrm>
              <a:off x="1124640" y="3830760"/>
              <a:ext cx="6917760" cy="347760"/>
              <a:chOff x="1124640" y="3830760"/>
              <a:chExt cx="6917760" cy="347760"/>
            </a:xfrm>
          </p:grpSpPr>
          <p:sp>
            <p:nvSpPr>
              <p:cNvPr id="261" name="Text Box 20"/>
              <p:cNvSpPr/>
              <p:nvPr/>
            </p:nvSpPr>
            <p:spPr>
              <a:xfrm>
                <a:off x="1124640" y="3830760"/>
                <a:ext cx="2309400" cy="34776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40458c"/>
                    </a:solidFill>
                    <a:latin typeface="Times New Roman"/>
                    <a:ea typeface="HG Mincho Light J"/>
                  </a:rPr>
                  <a:t>60-70's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2" name="Text Box 21"/>
              <p:cNvSpPr/>
              <p:nvPr/>
            </p:nvSpPr>
            <p:spPr>
              <a:xfrm>
                <a:off x="3435480" y="3830760"/>
                <a:ext cx="2309400" cy="34776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40458c"/>
                    </a:solidFill>
                    <a:latin typeface="Times New Roman"/>
                    <a:ea typeface="HG Mincho Light J"/>
                  </a:rPr>
                  <a:t>80's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3" name="Text Box 22"/>
              <p:cNvSpPr/>
              <p:nvPr/>
            </p:nvSpPr>
            <p:spPr>
              <a:xfrm>
                <a:off x="5733000" y="3830760"/>
                <a:ext cx="2309400" cy="34776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40458c"/>
                    </a:solidFill>
                    <a:latin typeface="Times New Roman"/>
                    <a:ea typeface="HG Mincho Light J"/>
                  </a:rPr>
                  <a:t>90's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264" name="Text Box 23"/>
            <p:cNvSpPr/>
            <p:nvPr/>
          </p:nvSpPr>
          <p:spPr>
            <a:xfrm>
              <a:off x="4521600" y="2479680"/>
              <a:ext cx="1268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Self  (1986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5" name="Text Box 24"/>
            <p:cNvSpPr/>
            <p:nvPr/>
          </p:nvSpPr>
          <p:spPr>
            <a:xfrm>
              <a:off x="4520880" y="2689200"/>
              <a:ext cx="17838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Modula 3  (1986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6" name="Text Box 25"/>
            <p:cNvSpPr/>
            <p:nvPr/>
          </p:nvSpPr>
          <p:spPr>
            <a:xfrm>
              <a:off x="2773800" y="2870280"/>
              <a:ext cx="13539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ADA(1979-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5754600" y="2075040"/>
              <a:ext cx="13953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Ruby  (1991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7383240" y="2009880"/>
              <a:ext cx="10508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imes New Roman"/>
                  <a:ea typeface="HG Mincho Light J"/>
                </a:rPr>
                <a:t>C#(2000...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2400480" y="4237200"/>
            <a:ext cx="3600360" cy="1253520"/>
            <a:chOff x="2400480" y="4237200"/>
            <a:chExt cx="3600360" cy="1253520"/>
          </a:xfrm>
        </p:grpSpPr>
        <p:sp>
          <p:nvSpPr>
            <p:cNvPr id="270" name="Line 29"/>
            <p:cNvSpPr/>
            <p:nvPr/>
          </p:nvSpPr>
          <p:spPr>
            <a:xfrm>
              <a:off x="2414520" y="4617360"/>
              <a:ext cx="1800" cy="8733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1" name="Line 30"/>
            <p:cNvSpPr/>
            <p:nvPr/>
          </p:nvSpPr>
          <p:spPr>
            <a:xfrm>
              <a:off x="2400480" y="4604760"/>
              <a:ext cx="3600360" cy="108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2" name="Line 31"/>
            <p:cNvSpPr/>
            <p:nvPr/>
          </p:nvSpPr>
          <p:spPr>
            <a:xfrm>
              <a:off x="5986440" y="4237200"/>
              <a:ext cx="1440" cy="36756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73" name="Text Box 32"/>
          <p:cNvSpPr/>
          <p:nvPr/>
        </p:nvSpPr>
        <p:spPr>
          <a:xfrm>
            <a:off x="1103400" y="5505480"/>
            <a:ext cx="15793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  <a:ea typeface="HG Mincho Light J"/>
              </a:rPr>
              <a:t>Booch (1991...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Text Box 33"/>
          <p:cNvSpPr/>
          <p:nvPr/>
        </p:nvSpPr>
        <p:spPr>
          <a:xfrm>
            <a:off x="1063800" y="5818320"/>
            <a:ext cx="15793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  <a:ea typeface="HG Mincho Light J"/>
              </a:rPr>
              <a:t>OMT (1991...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75" name="Group 34"/>
          <p:cNvGrpSpPr/>
          <p:nvPr/>
        </p:nvGrpSpPr>
        <p:grpSpPr>
          <a:xfrm>
            <a:off x="2779560" y="4240080"/>
            <a:ext cx="3353040" cy="1420560"/>
            <a:chOff x="2779560" y="4240080"/>
            <a:chExt cx="3353040" cy="1420560"/>
          </a:xfrm>
        </p:grpSpPr>
        <p:sp>
          <p:nvSpPr>
            <p:cNvPr id="276" name="Line 35"/>
            <p:cNvSpPr/>
            <p:nvPr/>
          </p:nvSpPr>
          <p:spPr>
            <a:xfrm>
              <a:off x="2790720" y="4671360"/>
              <a:ext cx="1800" cy="98928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7" name="Line 36"/>
            <p:cNvSpPr/>
            <p:nvPr/>
          </p:nvSpPr>
          <p:spPr>
            <a:xfrm>
              <a:off x="2779560" y="4656960"/>
              <a:ext cx="3353040" cy="144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8" name="Line 37"/>
            <p:cNvSpPr/>
            <p:nvPr/>
          </p:nvSpPr>
          <p:spPr>
            <a:xfrm>
              <a:off x="6118200" y="4240080"/>
              <a:ext cx="1440" cy="416880"/>
            </a:xfrm>
            <a:prstGeom prst="line">
              <a:avLst/>
            </a:prstGeom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79" name="Text Box 38"/>
          <p:cNvSpPr/>
          <p:nvPr/>
        </p:nvSpPr>
        <p:spPr>
          <a:xfrm>
            <a:off x="2486160" y="5765760"/>
            <a:ext cx="1089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  <a:ea typeface="HG Mincho Light J"/>
              </a:rPr>
              <a:t>Objectory (1992...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Line 39"/>
          <p:cNvSpPr/>
          <p:nvPr/>
        </p:nvSpPr>
        <p:spPr>
          <a:xfrm>
            <a:off x="3727440" y="4919760"/>
            <a:ext cx="1440" cy="7538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Line 40"/>
          <p:cNvSpPr/>
          <p:nvPr/>
        </p:nvSpPr>
        <p:spPr>
          <a:xfrm>
            <a:off x="3705120" y="4929120"/>
            <a:ext cx="299880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Line 41"/>
          <p:cNvSpPr/>
          <p:nvPr/>
        </p:nvSpPr>
        <p:spPr>
          <a:xfrm>
            <a:off x="6715080" y="4249800"/>
            <a:ext cx="1800" cy="69372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3581280" y="5753160"/>
            <a:ext cx="1611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  <a:ea typeface="HG Mincho Light J"/>
              </a:rPr>
              <a:t>OBA,MOSES, FUSION (1994...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Line 43"/>
          <p:cNvSpPr/>
          <p:nvPr/>
        </p:nvSpPr>
        <p:spPr>
          <a:xfrm>
            <a:off x="8512200" y="4233960"/>
            <a:ext cx="1440" cy="129852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Text Box 44"/>
          <p:cNvSpPr/>
          <p:nvPr/>
        </p:nvSpPr>
        <p:spPr>
          <a:xfrm>
            <a:off x="7666200" y="5661000"/>
            <a:ext cx="1089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  <a:ea typeface="HG Mincho Light J"/>
              </a:rPr>
              <a:t>RUP (1999...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774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OO provee objetos como el principal medio para abstraer y estructurar un sistem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Un objeto puede modelar entidades del mundo real, puede capturar abstracciones de fenómenos complejos, puede representar artefactos de software (pilas, gráficos, …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774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l contexto del problema se ve como objetos que interactúan entre ell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AutoShape 21"/>
          <p:cNvSpPr/>
          <p:nvPr/>
        </p:nvSpPr>
        <p:spPr>
          <a:xfrm>
            <a:off x="2022480" y="4017960"/>
            <a:ext cx="5745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1" name="Picture 33" descr=""/>
          <p:cNvPicPr/>
          <p:nvPr/>
        </p:nvPicPr>
        <p:blipFill>
          <a:blip r:embed="rId2"/>
          <a:stretch/>
        </p:blipFill>
        <p:spPr>
          <a:xfrm>
            <a:off x="2209680" y="3200400"/>
            <a:ext cx="5011920" cy="22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538488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ceptos básic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722600"/>
            <a:ext cx="784836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lnSpc>
                <a:spcPct val="93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GB" sz="3200" spc="-1" strike="noStrike">
                <a:solidFill>
                  <a:srgbClr val="40458c"/>
                </a:solidFill>
                <a:latin typeface="Tahoma"/>
              </a:rPr>
              <a:t>Ejemplo Enviar Flores [4]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179280" indent="-179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40458c"/>
                </a:solidFill>
                <a:latin typeface="Tahoma"/>
              </a:rPr>
              <a:t>Suponga que Juan desea llevarle flores a una amiga en otra ciudad Marí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79280" indent="-179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58c"/>
                </a:solidFill>
                <a:latin typeface="Tahoma"/>
              </a:rPr>
              <a:t>Como Juan no puede llevarlas personalmente, le encarga a su florista preferida (Rosa) el enví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79280" indent="-179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58c"/>
                </a:solidFill>
                <a:latin typeface="Tahoma"/>
              </a:rPr>
              <a:t>María recibe sus fl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SSMON RM S.A</dc:creator>
  <dc:description/>
  <dc:language>en-US</dc:language>
  <cp:lastModifiedBy>ROSSMON RM S.A</cp:lastModifiedBy>
  <dcterms:modified xsi:type="dcterms:W3CDTF">2009-09-05T20:58:01Z</dcterms:modified>
  <cp:revision>63</cp:revision>
  <dc:subject/>
  <dc:title>Principios Orientación a Objetos</dc:title>
</cp:coreProperties>
</file>